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10158413" cy="7621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0" y="754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-50760" bIns="-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853920" y="75564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790560" y="4819680"/>
            <a:ext cx="522936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 accompanying workbook document: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ealth Services Planning in the World Class Commissioning Environment: WCC Competencies for health services commissioning and planning</a:t>
            </a:r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64D-06D9-45E3-B310-85925E809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2F9-A821-4D13-8DAC-7650A9745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DA5-E4CB-478E-B664-5455266C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A37-3AAC-4C3A-B024-DCECF6AB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C162C-0203-4239-BE83-647E6983E6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FE44E-F45F-42CD-8011-A7081C562E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5A6EF-CFB0-4512-9733-8B9A222C83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4C8F6-424E-4D44-A3A8-6592D2F7D9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C48FF-5BD3-40EE-8E1C-1651C447BE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F8B44-DEC2-475A-B92D-973EA7F580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816D9-295F-400B-89CE-44A7217184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12B51-9D48-4D9B-BEA2-8C78307182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2D18B-C4A6-40D3-B507-07254A5DDD6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27E71-0AE2-40C4-A1B3-CD7BC76BF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91E-15F7-4FDC-837D-617E031D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BBB69-2F5A-4BB1-BE2E-54F92BD682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7BBAE-A04C-4E3A-B60C-C9807293A5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72749-C358-4AE2-AD68-FC33C46D89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B149B-CBD1-4C56-BAF0-ADCA409301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E8CCD-33E9-4E03-A78A-C316B77C17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9777A-938E-4ADD-A71D-D180E9079E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67A4E-924A-4354-B900-CA9DCE120A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01668-E3DA-4719-8638-20E32BD9D5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AD6B8-5DCD-48EE-9269-223DF40B08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9804A-7066-4B78-BFFC-04C7C9297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FCB-3271-4C46-9AC4-805F8CA8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9444C-E23B-47FD-8CB0-2C2A60B8F1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6FED-0355-46F8-9F26-91C4F30B91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8706-CCCC-48C0-9D5F-B1CED20B99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DBF7-FFDA-45F6-8C33-3EE0EFB0F3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4DDA-23C4-45E9-96A7-41F1E42B2C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2FF4-119F-40D4-9391-03083D1FC01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5F3C-07EB-4AB7-B26B-78CD3B3A51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E18A-F4EC-4D73-A6C9-FB5DA9DC9C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E01B-6740-49A4-A938-653987EC07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0239-F51C-47C1-B90F-F369946BF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977F-1CD8-40C5-831F-4398710F17A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119B-70DB-49AA-9D76-E935B62D376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EEA8-1B88-47B6-814B-05A4F3A362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8C71C-B8DE-4E31-B0AA-387DCC12FCC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EBBAF-8FAC-4391-B2D8-B0FF121FE31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B5433-3EF5-4064-B90B-57AEFCDEC1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3CE22-BF4C-431E-835B-65A77CBBB9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B372D-DDE0-4391-9CE5-EC3C146039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9423F9-8C28-4F32-9233-3B64C66019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768B2-7789-4D8C-A087-E8AD93E3ED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EF935-8E6C-4D29-B291-0DB2CFE0C2C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E47DC-3A8E-41D1-8770-84F80297E7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D2483-D47E-4D2A-93E5-1C2A37B59EF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085D0-0B57-4D12-9EE9-48E2D20D2F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790F3-0663-4FA6-9455-FD1F17CBB2B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E63D1-FF42-489A-9FFB-26E96CC266A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DA6B8-8ED4-4BCA-A305-3FCE1661B1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51207-7D34-40CC-B3FE-F36D56E140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7A148-A9EC-4B60-9411-A53C8EBD31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40DE5-0AF3-4D89-B070-4A89DD6F62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DC42D-EF13-4625-9595-493B2F63C0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97608-767D-4184-8CCE-C04DEBE438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4B467-7F54-452A-8CCF-88C690BA02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7B4CB-329A-4F17-B3B4-D73FC3A80C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1271A-D0F6-490F-A666-B77259632C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32409-9666-4C17-AFFD-5EB5DF9C27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875B9-8BAF-4E9A-9987-AF3E50BD02E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72B86-A80C-4A26-9EFE-472B8628951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A2854-AA1C-4887-8CFD-BA085E9929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1F56-6C93-4A10-A228-C837C4B51D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576F-C713-4003-8621-C5D318817BE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FAB8-1013-42E8-9748-DE7223A595D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574B-E9DE-4CBB-9958-C62C6EFA95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1BC5C-EA73-462F-A133-68316D0DE7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F4A2-769E-4636-9C15-0FC1FA3D36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6745C-C40A-45F9-89DB-709594D3FF5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E889-F649-4CDD-9CBF-9CB0CB94A99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CAB1-8A16-43DD-8CE1-17962AB31D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225F0-7171-4851-B1FE-7C5E4B0F391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38C88B-6AA2-4927-8FF4-45FC9D9B4E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9773E2-2614-4E8E-B64D-2809E249E42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70DE6-20CF-4D67-9C1E-D0FA224FF39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7A437-B49A-4231-905E-D8B3D883CC7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2433B-974B-4461-AFDB-DC49AF0ECF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D5B16-D126-4043-B9F2-9D51996A3D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FE82A-8BAD-4889-831A-E7831C13BB5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9B65C7-A75C-492D-B7B0-92753485B28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594C0-DDAE-44F6-8A1E-76958178967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B9B9D-FF32-4269-9549-F2E238B286F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13C0A-0770-4C18-84A1-8DD8203B7A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D9EE5-84B9-42F5-B5EC-B51605B4C8B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81C0D-32F4-4B92-A19C-95659829D04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AC6CC-1677-45A6-AB90-2AAA3C38CCC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23C3D-BFDC-480B-BE51-C854B1AF12E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948D1-A381-4B3B-80EF-8712EB2EE7A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D694F-306E-47EA-BAEC-E70D47CDCCB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597F9-0264-498A-A78D-8E464E22048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FFE9B-B056-48AC-82BF-72ADC4A997E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FADFB-46C9-4332-A86C-851B5A46937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C584F-EFD2-42A9-9F6A-EDFFE39F8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0AC70-77D4-4D3B-ACC9-97C7B5D4ED5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9F7BC-66B7-4D2E-BCCE-E880C20F91E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E045E-5488-420F-B2F5-84408580660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9916-60DF-4C87-B819-F2D09B0094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4FF0-31D0-4570-A63A-541FA3F0F1B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2703-90E8-4194-8FA1-FD4E4C70FB7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59D9-BE2B-4291-8968-353993C363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2834-0FB9-41B7-BE5D-D181DC64AA0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7443-26D4-4ACF-9EBE-0ED1D96F70D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326D-8637-4F10-BCB4-AE3020444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A9B-300C-4DB8-B4DB-253EB27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4C7A4-2C46-4B5E-AA3E-20E38EF239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57BD-2741-4C68-90A7-BBCA1B79701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45E8-067D-4F81-B2EB-23A14D6A6CC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85FE-9776-4E0B-AED3-9758C72AE74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82C9-660C-41FE-B0CC-A4E4DE9C21B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34E0A-CC74-4C86-8556-89F7F679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F36F4-37DC-4E9D-9492-2B4FB67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DDCBF-7DE4-45F3-BF43-34D0777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B1CD-9414-4C00-B3CC-BE035E26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4E67-F6D5-4D22-AE0E-43E84946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F9D8-2836-412B-89DE-157723B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AFE39-6255-44C6-8960-71FBD34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B450-5D72-4150-BC41-E86AF18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B385-C186-4051-A6EC-A4537876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7147-425C-477C-8364-629E17C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E1D9-C87F-4C03-A2BB-73BD5B97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141F-AC57-4FAB-8FAC-03FFECB3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C99E-035B-40B2-B669-B1DDDCA7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B5E9-680A-42D2-ADED-9701714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20ECE-8253-48E1-81FE-F253D90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F9439-062B-4ACF-870A-BC2EE51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6AEF2-3FD9-4294-87BA-A829E5C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1B6A-AD97-4E0D-B897-1419CCF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A4BD-C2D8-4B44-BEE5-68BA6E2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1384-F390-4C36-B575-27F5E37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293A-1A8B-4664-B6B6-53E407E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14E6-7B20-4470-943B-EDF29E1B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AC2E7-0062-469C-B0AA-B74D6DBD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3E0C-ACF1-47ED-A7AA-4341D34F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A69C9-C641-4AD3-A400-B14BB9FB39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DFD2A-0B41-438C-B85C-7A03C33A69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E5025-F3C8-41D4-8E1E-1CC36D6F49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685D4-C727-49EE-ABFD-710A9DB8AB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3172-379B-4279-9FAE-7502C7368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737-229F-4A9C-8440-F75E1A98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EC3CB-7B34-4727-B71B-62E621DE74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0F8FF-BB5B-4A7E-A8EC-13510A6FCB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84AB0-3631-4525-B794-1CC524B526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B67F4-6B19-491F-8D1B-C35363F91C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5FCC-99F4-4F2B-B00E-C9C8BE07AE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459B-4950-4118-BDB0-2167272E7A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A95D0-F2B7-49F4-9AE9-8B9DDDD70D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7DA9F-F9D2-4083-B7AC-F71B7BD06B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2ECE6-0818-47EB-BBE9-75B9029CB4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EE04-7927-4C4B-A56F-5F0E34DC2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839-53AA-4CE3-A8BE-A3CAA21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52991-FB52-4B80-87DA-9A0AF4C60D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D856-732F-4DF4-94FE-D82ADA3EAF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B453-65E7-4E2F-9D3B-33CE15C9CD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D84C-AF8B-4902-9002-761D8457C5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7FD64-0F15-4AE8-9749-49E1E7D2CD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0B4E2-18B0-4936-BF52-A9D9FFAED8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6DC4D-88E3-489C-80C3-E826F31ABD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8D57-DF2D-4C43-AE06-B2EAEC0250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3AB42-E8AD-4ABD-8019-35E7F25061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2855-D5BA-4B84-ABF0-0E76BB815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8E3-0B63-4C7E-A3C1-E4D2FFBA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F073-F3EC-4314-A507-2DF81B2AA7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EA5F-6B7E-4E94-8FBD-FAF5792C45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E3D-A05C-4C38-A4D7-EBF05E4B66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107C-8F85-4B63-BD5A-E21950BEB4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B24-3870-404E-92DB-40C57D0C83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F57E-206D-4252-AEBE-2804BD60EF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E1DC-14EE-4167-8CA1-5F3C24E69F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ABA1-C39B-4EA7-A861-B374302CED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21C7-A045-4A59-A596-9E49E705F3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B45-CC7A-45BB-BEB1-FADB04E25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2DD-6769-480B-89B3-9D5EF9A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ACB-9711-4932-BE58-4A18E09BDA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26CFA-2F2D-4766-A51B-8E171E008C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DADFF-A949-4BA5-A34B-90329BE6ED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3F2E1-2088-40D2-B590-78FB6F20AA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B5950-47B5-401C-8C2C-C026EEA012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014C2-A586-49DF-8EA9-F08601333A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A940E-8763-49ED-84E5-CFBA810A0C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2F5C4-DA86-4FB0-9428-58CCA7BF5F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7FC87-275E-4119-B69C-DFEBF5E2C8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C09E0-EAA3-4EAB-AE96-ABEE96E3D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6EC-2149-4888-903A-A2EF587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89765-7F19-4D14-BDA0-A3A9CCD361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66179-7135-42AC-8A0A-87C8FCF117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05681-EFCC-4BAA-AC16-2389344547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ED28B-AA3C-44CD-A1DF-1CDEF10B67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6F027-AEB7-44CB-A97A-2FDC7F678B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5A1AA-B497-40B1-B065-7048E97AE9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535D9-4B59-407C-A9BA-2B0EF89E0B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B7C90-3D4B-4053-954B-58E2315DB5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8CB36-D595-47BD-8FBB-0B3C3F4753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BABD1-98B0-47BA-B6CB-D5A9279D1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D4E-BB8E-42A4-9B39-637F94E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DC3F3-D02B-4F32-B155-340417FABF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2DBB4-3A59-4CB8-B7D6-1261258E12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E400E-4778-4BE4-985A-E0F2B3CEDE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2F2C4-45F1-4100-AE37-B3E49FCAAD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5864D-81D3-4E8A-8E14-1541A0195F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71D6-7CCD-46E4-8542-CDFA3DEEB6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09E6-5918-4357-9BC2-32B12DFFDD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DD66-D06E-4C35-8572-CDF1DEFA68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16E9-44B4-48BC-A0E5-C2201EC39F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EFE3-1DFE-48CC-9113-91436190A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C9A-8226-4554-85F7-A40C746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0AD6-9468-4FC5-BCD7-148A9D8329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D787-B521-4F2E-8A76-ACF3EDDE86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9540-57F1-459F-9393-35CF4258D6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7A14-77C7-46AD-A513-5E88E83878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BF27-C550-40D2-AD14-1665AE54EA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FCF8-FCB3-441F-8DCB-64225987A8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6DC7-683C-4B03-BF51-945DCD0651B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7A701-F6D7-4496-A852-1BB55BAF0C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DC325-172D-4C44-AD4A-7B63B6D0F2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760F2-750E-4CA8-9D64-C2B6A08B3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3EA-A8F9-4379-8745-D04BFCE9BD11}" type="datetime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D8F-98F6-4920-98EC-AF85BC3C2485}" type="slidenum">
              <a:rPr b="0" lang="en-GB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73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1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368A-44F0-45EB-926F-0E898EA319FA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2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61E0-D979-4AED-857E-8480038656B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3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87A-4508-454A-9E18-8CC8621EA698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96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769-2FEA-4C45-85E1-D8CDB01BB742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37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1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444-6F6A-4D0F-9325-76162D396D46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1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D2E-963C-4D2E-B250-305796404CAB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20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E72-6DA4-4537-A0FD-988D61D4036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61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sldNum" idx="1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36C-012D-4AFA-A133-9F95704F2BFB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8"/>
          <p:cNvSpPr/>
          <p:nvPr/>
        </p:nvSpPr>
        <p:spPr>
          <a:xfrm>
            <a:off x="371880" y="716904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LM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9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20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21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F3A-EB85-4C2D-A12B-EB8A88AAB8B7}" type="slidenum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7"/>
          <p:cNvSpPr/>
          <p:nvPr/>
        </p:nvSpPr>
        <p:spPr>
          <a:xfrm>
            <a:off x="371880" y="716904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LM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749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2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3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24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620-808A-4E82-8468-3F69D92E6449}" type="slidenum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HK PPT template2.jpg"/>
          <p:cNvPicPr/>
          <p:nvPr/>
        </p:nvPicPr>
        <p:blipFill>
          <a:blip r:embed="rId2"/>
          <a:stretch/>
        </p:blipFill>
        <p:spPr>
          <a:xfrm>
            <a:off x="6480" y="0"/>
            <a:ext cx="10145520" cy="762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371880" y="716904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LM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84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87F-4984-4409-9512-99FFB5FF4EA5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3A39-F70B-4631-A899-381EBDD8195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86F7-F8A4-4EA5-BF53-4A42B2C3E64B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5B0-626A-4FA3-973F-D74B80B39FDB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62F7-B45C-450A-99DD-281FCFB58D3A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9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CEB8-DCA8-452F-8A8E-CA207BA10CBF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32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0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1D6-A410-468C-8851-6184458409F9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9360000" cy="107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Public Health Modul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4880" y="1523880"/>
            <a:ext cx="9360000" cy="96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471600" y="2952720"/>
            <a:ext cx="95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lth Services Planning in a 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World Class Commissioning (WCC) Environment: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WCC competencies relevant to planning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434880" y="5097600"/>
            <a:ext cx="92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vid Lawrence, Associate public health consultant, PHAST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Hon senior  lecturer, London School of Hygiene and Tropical Medici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es Mayhew , Professor of statistics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culty of Actuarial Science and Insurance, Cass Business School,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ity Universit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>
            <a:off x="0" y="2809800"/>
            <a:ext cx="101584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720720" y="1095480"/>
            <a:ext cx="85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WCC Objectives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649440" y="2809800"/>
            <a:ext cx="855972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01520" tIns="50760" bIns="507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World class commissioning is about improving</a:t>
            </a: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  health outcomes and reducing health inequalities”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80"/>
                </a:solidFill>
                <a:latin typeface="Arial"/>
              </a:rPr>
              <a:t>David Nicholson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80"/>
                </a:solidFill>
                <a:latin typeface="Arial"/>
              </a:rPr>
              <a:t>WCC assurance handbook Sept 2009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720720" y="1095480"/>
            <a:ext cx="85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WCC Objectives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720720" y="2809800"/>
            <a:ext cx="864540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01520" tIns="50760" bIns="507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At the heart of this is the need for PCTs to commission</a:t>
            </a: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  outcomes that deliver high quality healthcare and give</a:t>
            </a: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  value for money”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80"/>
                </a:solidFill>
                <a:latin typeface="Arial"/>
              </a:rPr>
              <a:t>WCC assurance handbook Sept 2009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49080" y="666720"/>
            <a:ext cx="91422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CC Competency 4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49440" y="2166480"/>
            <a:ext cx="9144000" cy="4224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Lead continuous and meaningful engagement of all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clinicians to inform strategy and drive quality, service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design and resource utilisation”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shops bring commissioners and providers together to: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shared knowledge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echnical commissioning skill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cost effectiveness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ethical legal basis of funding NHS treatment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5232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CC Competency 5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49080" y="1952280"/>
            <a:ext cx="9142200" cy="443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Manage knowledge and undertake robust and regular needs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assessments that establish a full understanding of current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and future local health needs and requirements”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shops are designed to explain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les of needs assessment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lationship between need and demand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apply needs assessment in commissioning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and planning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49080" y="952560"/>
            <a:ext cx="91422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CC Competency 6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49440" y="2590920"/>
            <a:ext cx="9144000" cy="379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Prioritise investment according to local needs, service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requirements and the values of the NHS”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shops provide an introduction to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analytical techniques and their application base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case studie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 economics and cost effectivenes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hical-legal basis for prioritising treatment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49080" y="952560"/>
            <a:ext cx="91422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CC Competency 7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77800" y="2381400"/>
            <a:ext cx="9142560" cy="3930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GB" sz="22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Effectively stimulate the market to meet demand and secure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required clinical and health benefits”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shops explain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les of provider performance measurement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and limitations of performance measure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need indicator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rinciples of health economics, economic evaluation 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health service re-design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20720" y="95256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CC Competency 11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26880" y="2452320"/>
            <a:ext cx="9142560" cy="371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World class commissioners make sound financial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investments to ensure sustainable development and  </a:t>
            </a:r>
            <a:br>
              <a:rPr sz="2400"/>
            </a:br>
            <a:r>
              <a:rPr b="1" i="1" lang="en-GB" sz="2400" spc="-1" strike="noStrike">
                <a:solidFill>
                  <a:srgbClr val="002060"/>
                </a:solidFill>
                <a:latin typeface="Arial"/>
              </a:rPr>
              <a:t>  value for money”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shops explain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18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rinciples of health economics and cost effectivenes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18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of public health and research evidence in heal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care provisio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2:11:04Z</dcterms:created>
  <dc:creator>Elliott Golsing</dc:creator>
  <dc:description/>
  <dc:language>en-US</dc:language>
  <cp:lastModifiedBy>mdeacon</cp:lastModifiedBy>
  <dcterms:modified xsi:type="dcterms:W3CDTF">2010-03-19T14:29:36Z</dcterms:modified>
  <cp:revision>20</cp:revision>
  <dc:subject/>
  <dc:title>Slide 1</dc:title>
</cp:coreProperties>
</file>