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9.wmf" ContentType="image/x-wmf"/>
  <Override PartName="/ppt/media/image1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10158413" cy="76215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61D-42D2-43AF-BCAF-091A951F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7AC-7E99-49D0-99D6-3B2285E8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B33F64-6963-4D99-A17A-9C12571EB8F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56234-0006-41D5-8671-58E487649B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A404B-FFE1-493B-83B4-46A63585ED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7D40E-7D4B-4516-8DD7-FE5119C59B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EB804-E782-4702-ADB4-EA4823C0936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78955-DAC0-4795-A648-990783A4B83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2D87B3-0BA5-41C8-A700-0C6A585AC33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E827F-1643-449F-A56E-585424668C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6874A-4710-488D-8663-0C49F513C35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D24B1-AC55-4255-8BFA-092B21594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21E-0C13-4300-9A43-1B752FDA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75807-C51C-439D-951C-72E2F1A8239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B3ED0-2EE2-47FC-8C4B-1D88BF9A96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69F5D-5A71-4A14-B471-D8AA676C593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C51EC-930A-4269-B3FD-8BB11373CD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06A13-F799-4446-9697-1701E19392D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F67BC-E166-4D21-84DE-1A2838E0007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47D59-DCDB-4CF1-818F-4DBFC27ED98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010AE-9805-48F1-A60F-28CEFD91CB0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EC1EE-6296-4FF6-B94B-89008BB6540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0BC94-7404-417C-BEBD-A65F1AA8C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38B-3A47-4474-ABED-041C298C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B8F7F5-DD5B-4D66-B078-64CFBEDA3FA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DDDA-FE0A-4748-BDF0-EEAE302FD0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030E-4F05-4360-8430-3C21C28FE4E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8E91-22BC-4171-B4F4-6842C0FFD19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A48ED-6975-41A6-8236-62802B148AA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9575-945B-46AF-836B-2BCE8C56497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59BB-920C-4195-BFEF-4514E0EB1E4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9BEEF-C939-4C7B-A893-7182012D67B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720A-8DE1-46AF-8E36-6ECB58DF090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5F53-B3A0-4885-9C22-20C5D5D8A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AB019-3959-42A8-A513-503182E1C0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F607-D3C6-4CD4-9B8B-E381CBAF22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1D4E8-F0CA-4133-9716-5D885D1CC2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3DFAF3-5E4C-48B6-9BC4-9D50C635B5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4F28D6-CB7A-485F-97BB-0B97DDAB279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4235B5-082A-4A22-B0DB-0EB6A07023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105B59-0D28-4908-97B5-1FC9AC35CBA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E5B620-0BF2-42E0-9C97-02D08D7686C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DF653E-3FD6-41FA-8B3C-96B332650F8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32B50C-77FD-4DAF-92C3-8CB60C087D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776BBD-D296-4091-9757-30E445836D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547397-6B4D-4423-861D-F01FFC7E45C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7B6F26-2E1F-4246-B004-397AC107742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5B05C-7CAD-4036-A0B9-D40839CB7B3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1FEBA1-0130-458B-B468-37B85577ED1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0EE42-63A4-4F8C-BFA9-DAE646881A3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E0323-E105-4EFA-AE63-00F2AA90155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83C7A-CF34-42F9-B8FE-CF1178CC13A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44347-780B-4887-853A-602C8384331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A51CB-7C5C-42F4-8A99-10C9F09DA3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03E2E-616F-4712-915E-DF5ABE7FD4E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CFF29-1443-42DF-84D7-51AA2629557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918D8-558E-4611-AF22-3FFD1F202E5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27733-B48D-4479-8246-BF829696084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2B19E-4D38-4762-B988-FE3C6C944A8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4419F-15F5-4204-849E-408364BD048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70A65-7FD7-4731-B392-5D21EF089B1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E6844-736D-4654-9F3C-CDED2E7AC12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E8F10-3A35-4F5B-AAB8-E3F1B11BA5B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7861B-DEBF-494C-8BD3-D202127833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6968C-0C38-4D1C-9393-15876A17A90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1C529-8ADF-466E-A680-76E49CF1D3B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1AE2-550C-4FFC-B3FC-BB80F99D0F0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4AF8-0D46-44F0-A47F-04436FDCB97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026AF-8BE6-452A-AAD6-784523E717C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AE5F9-91AA-48C6-88B7-459EEF7AB90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F815D-750D-4ECF-8719-EF291AD9968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70035-9891-46FD-912D-86C46193238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A759A-3140-46DC-ACEB-1BB1A1640F4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3DBF63-047C-4454-8C0C-5A15999699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24669A-64AF-4A9D-AE69-EF0285F5627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B9C6F4-46A7-4D32-958B-4B4CB4B0ED9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25BCEE-8873-4063-B496-27C530615F8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628668-5487-4F47-95AD-F79118BD191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628098-0709-4046-AB34-784ABB0A061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88D8BE-5100-4E4F-9874-2B330E058E5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C202FB-0619-4EBB-ACE6-6958B3D9D5F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A835D-7A5B-446A-984C-78BDD02597E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FC619E-D5B8-4DD6-8D18-70D3D82905B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CB83AB-31CC-45A3-9BBE-A4AB4BE9F9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84F843-B307-41D1-AEF8-87D5A45F62F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D6845-C107-4CBE-8CFE-60F5F2D01D3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C3953-31C2-4EB5-A89C-21B5EB7CCA3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CA1F4-B5C2-4058-8AB4-F3F03299CD2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40C17-5814-4F25-8697-A4FBF25EE1A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EDE437-229F-4346-BCE0-0E4BECBA64F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2AFE9-4846-463E-A683-C2149F6B41E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E01D8-F55F-43FA-B484-7515FE86549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4F001-4E06-4D71-8FFA-35A30832E7C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21F2C-E4AC-4C51-872C-B8999CF204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BB0B8-FF0D-416A-8797-E951328CF70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DBCB1-1277-4313-A68C-A72FB79861E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5E43C-6754-486F-9009-EBF4AD8EF44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3EAD2-3DA9-4C37-941D-93AB62179E1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ABC10-73BB-4818-9BFC-44CCECB6318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61E3D-17B8-4F73-8374-C775FD2023F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F89E8-7F2E-44F7-81C3-1B27FF4A9F2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276A7-7D8A-4ED8-B7E0-46D19475344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247EF-95E1-46C8-8A2C-ABC0D5D5D31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A8F3C-FA5B-44B0-AC28-41B8B7E922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A6D-AD2B-4283-B0B6-639BA92B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B17BD-B40D-46A4-BD19-987E7AEA780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5D823-C3C5-41A6-8A55-2F8CFB678AC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3F9C0-8FA4-4B2B-87FE-167BC83583E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672D-8307-4BB6-8F5B-D1C35E5E52B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E441-6044-4425-9F3B-9719546A9F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6D4DB-78F8-49C1-86B4-9AAB49DA4A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911C9-A3A1-44CE-B2F9-05C6F71BE8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66B73-3274-4581-A502-2A71B37D33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DAEB3-E1A8-458F-9414-447ADFDE73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EDC70-D230-44A7-AD10-886637892E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743-11D1-4C76-8898-3EDCC7CB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4F074-8682-4F66-A294-71F62196B4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623E0-2252-4538-8D23-79814B1488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2F854-A90E-4DFB-A91B-34E828CF69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40968-2F91-458D-934D-1A061278E1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58F97-1907-45DA-8AD1-7C17E2658E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A0CF5-7D52-490C-970E-84CA43D0B9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BB912-723A-491E-A12D-BDA633723C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95A2B-927F-4891-80B2-AF3BE583E7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803B3-876B-40B8-8FCD-9A4CEC8981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6C62C-827A-4EF7-A515-D37820B3F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623-3465-4A9F-BFA9-93E0DEE0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C50F4-C302-41E9-9E8C-4A973BFEEA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23CBD-7B70-4CD1-9F99-0846C9CF3F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298CC-024C-4F08-865E-944F38C3A2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E7146-B39B-47FD-B37C-0A84A6EC83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1C441-2BDB-4BFC-A120-8C6B160A93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9974A-5715-4E24-9A41-174A601508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4EDB5-2116-4119-A700-72C332253E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58A24-372D-4F71-BF9B-531AE07874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40FF7-26AE-4D07-BE1B-EB8D1704DB1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BA4B-A327-4300-A4BB-E4884B0B5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3CB-C5AB-4D14-AB28-48552005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FDBC-2F1E-4CFD-89B3-6F8B9C4F49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1ABA-004D-473F-BD6F-5C241E48A1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824A-7AE8-44BA-A614-324E8D4B0B3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F950-8BFD-4B0D-8A9D-4FBBC04576A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300D-DEEC-498F-BDA4-30D04F95676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1462-5283-40B9-84AE-4B0B9FD7FA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0CB5-7B38-40C6-A4CC-CA5A128DE13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79AC-9715-4838-AF2B-6194A8009B7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B439-121C-43D8-9CB3-EDA6B968D4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79E5-E7CD-4044-B68F-778B02428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D62-C926-4BCC-8C0C-802A06B7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AC9B-8EBD-4B89-8B73-9FE85B366BD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036F8-EA99-4F15-97DA-B92C91827AB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4211DA-6F53-4E8A-A111-B6BDE4C888D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520B1F-4E66-43BB-B073-6E09B7B738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9A2C3-DED4-406C-8517-E427A2D7AA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5E683F-B43F-4C5F-B8C9-A84C5E55089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BF086-8859-4E07-ABB7-3E3B21DA526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57893-1201-4F4F-8B1D-A62C3A44BA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2FFE7-9D59-42E1-8EC5-BE18E35AC6D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C424C-307D-4436-839E-EAD0AAE83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B32-D411-4BBE-84B7-DA8440EB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EEDA1-FF05-4007-9129-C7C0A4FA181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34BF7-9B77-42F1-83E1-F22CDF1BF3E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A18D2-E3E0-412B-8822-9DDBD2C7A2B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31A70-3842-4861-8A1F-7ADF1553A1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868F0-5995-49F5-A58F-76C070AC13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B118D-CE8F-4DF9-9883-D054AB7CD41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BA4C1-6502-4ED0-AB68-9914F2BAE9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BDC59-766C-4A35-94C7-D2EB2388CDD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9D1E7-E86C-4C07-A2F3-EC69F0C4A66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9E8E8-0150-486B-B43D-FA16D6423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A18-0549-469F-BB91-EA05E975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33EBF-A68C-458E-8432-B4C8D153AAD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76C03-5467-4550-9CFE-2363B57852C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5C3F0-5C61-4B8E-ABD6-8B10C245257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96455-FDDF-450A-9EFB-6C3E331D8D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91D4A-35A0-4179-A132-16B60F0965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BD30-3DC4-4376-8A79-46D265EC421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3DBF-D0CE-40CF-9074-1303801161D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F3A7-C612-4A20-A363-51C5011E577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3031-B368-419C-BC24-3BEE50A785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370B8-95FA-4F77-9D35-868C992C9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FA6-4559-42BD-89BE-58D47DEF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256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A0F1-CDC7-4127-A8FC-391295D5E62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C3F48-53EE-41B3-8E6A-F65979E6ED8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E632-9E9D-4039-A737-2E337723436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3AA2-9E9D-4324-ABD2-3EA12B18597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7960" y="4405680"/>
            <a:ext cx="914256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C142-47F3-44C2-9071-91B6C160EE6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7804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193000" y="4405680"/>
            <a:ext cx="446148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B80B-4B41-41AF-80C6-7ACAD0E5620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9928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90600" y="177804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796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59928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690600" y="4405680"/>
            <a:ext cx="2943720" cy="239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58F6-3BEE-4F2C-BD7C-8DBEFACBC3B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AD195-A95C-4F5D-9987-04AA2070AA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37C17F-D765-4BC1-BC46-90D90DD3045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FF2DF-8608-444A-B1CE-CCC923307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796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D6D-AEA4-4CDF-9275-56348502BCEE}" type="datetime">
              <a:rPr b="0" lang="en-US" sz="1300" spc="-1" strike="noStrike">
                <a:solidFill>
                  <a:srgbClr val="898c9d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70400" y="7063920"/>
            <a:ext cx="321768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80280" y="7063920"/>
            <a:ext cx="2370240" cy="405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B6F-9851-4C28-8BA1-21FD792B7CED}" type="slidenum">
              <a:rPr b="0" lang="en-GB" sz="13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373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11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3D7F-65EA-495F-8BB5-A72FC1C1DE9D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12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F5EC-0940-43B8-AD53-056AA5A4E202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13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8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B382-92CF-4171-8ADC-87AF58DCF7BF}" type="slidenum">
              <a:rPr b="0" lang="en-GB" sz="1200" spc="-1" strike="noStrike">
                <a:solidFill>
                  <a:srgbClr val="000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496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4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586A-E365-4875-8D4E-B3FEBDF22D25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537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Num" idx="15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D0B0-2D7B-40B3-A6BF-ABD8CA805B50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16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8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C245-E66C-4A5D-B647-F7E97973106B}" type="slidenum">
              <a:rPr b="0" lang="en-GB" sz="1200" spc="-1" strike="noStrike">
                <a:solidFill>
                  <a:srgbClr val="000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620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7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AC92-20E8-4194-9018-0B026C005397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661" name="Oval 7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sldNum" idx="18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246F-4307-474B-A925-73958B2E5778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HK PPT template2.jpg"/>
          <p:cNvPicPr/>
          <p:nvPr/>
        </p:nvPicPr>
        <p:blipFill>
          <a:blip r:embed="rId2"/>
          <a:stretch/>
        </p:blipFill>
        <p:spPr>
          <a:xfrm>
            <a:off x="6480" y="0"/>
            <a:ext cx="10145520" cy="762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2" descr="JagzNkm Logo BLUE 300"/>
          <p:cNvPicPr/>
          <p:nvPr/>
        </p:nvPicPr>
        <p:blipFill>
          <a:blip r:embed="rId3"/>
          <a:stretch/>
        </p:blipFill>
        <p:spPr>
          <a:xfrm>
            <a:off x="2558880" y="6959520"/>
            <a:ext cx="852480" cy="595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371880" y="716904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LM/DL/HK © 2010</a:t>
            </a:r>
            <a:endParaRPr b="0" lang="en-US" sz="10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84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EA94-9610-466B-B4E6-6410F7CE23AC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27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5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DA99-DE55-44AF-BBE5-F07DBA614BD5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6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B659-A683-4C54-958D-4E9BF195D9CE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7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2F7E-0B08-4181-BB86-77826A4807BD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48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8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BEDB-4A08-45D2-873F-8276EBD1240D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7391520" y="380880"/>
            <a:ext cx="1828800" cy="38124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7427880" y="3808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B - WorkBook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9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A8CD-F751-4B78-AA2C-3215E8E4BCE0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7" descr="HK PPT template.jpg"/>
          <p:cNvPicPr/>
          <p:nvPr/>
        </p:nvPicPr>
        <p:blipFill>
          <a:blip r:embed="rId2"/>
          <a:stretch/>
        </p:blipFill>
        <p:spPr>
          <a:xfrm>
            <a:off x="0" y="0"/>
            <a:ext cx="10145880" cy="7621560"/>
          </a:xfrm>
          <a:prstGeom prst="rect">
            <a:avLst/>
          </a:prstGeom>
          <a:ln w="0">
            <a:noFill/>
          </a:ln>
        </p:spPr>
      </p:pic>
      <p:sp>
        <p:nvSpPr>
          <p:cNvPr id="332" name="Oval 6"/>
          <p:cNvSpPr/>
          <p:nvPr/>
        </p:nvSpPr>
        <p:spPr>
          <a:xfrm>
            <a:off x="9296280" y="228600"/>
            <a:ext cx="609840" cy="609480"/>
          </a:xfrm>
          <a:prstGeom prst="ellipse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3" marL="1776240" indent="-252360">
              <a:spcBef>
                <a:spcPts val="901"/>
              </a:spcBef>
              <a:buClr>
                <a:srgbClr val="00206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4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5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lvl="6" marL="2284560" indent="-252720">
              <a:spcBef>
                <a:spcPts val="901"/>
              </a:spcBef>
              <a:buClr>
                <a:srgbClr val="00206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0"/>
          </p:nvPr>
        </p:nvSpPr>
        <p:spPr>
          <a:xfrm>
            <a:off x="77760" y="7214760"/>
            <a:ext cx="714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7E37-7342-4548-A6EA-7EE2ADFF85F6}" type="slidenum"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1640" y="431280"/>
            <a:ext cx="9360000" cy="107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Public Health Module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31640" y="1692000"/>
            <a:ext cx="9360000" cy="966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nu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>
            <a:off x="0" y="3276720"/>
            <a:ext cx="101584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sp>
        <p:nvSpPr>
          <p:cNvPr id="706" name="Rectangle 6"/>
          <p:cNvSpPr/>
          <p:nvPr/>
        </p:nvSpPr>
        <p:spPr>
          <a:xfrm>
            <a:off x="471600" y="3666960"/>
            <a:ext cx="87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Health Services Planning in a 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World Class Commissioning Environment:</a:t>
            </a:r>
            <a:br>
              <a:rPr sz="2800"/>
            </a:b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Exercise 1 Coronary Heart Disease (CHD)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Introduction to question 2</a:t>
            </a:r>
            <a:endParaRPr b="0" lang="en-US" sz="28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Risk tree based on absence of CHD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29" name="Picture 3" descr=""/>
          <p:cNvPicPr/>
          <p:nvPr/>
        </p:nvPicPr>
        <p:blipFill>
          <a:blip r:embed="rId1"/>
          <a:srcRect l="11565" t="35532" r="16009" b="2003"/>
          <a:stretch/>
        </p:blipFill>
        <p:spPr>
          <a:xfrm>
            <a:off x="1298520" y="1290600"/>
            <a:ext cx="7309080" cy="507672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5"/>
          <p:cNvSpPr/>
          <p:nvPr/>
        </p:nvSpPr>
        <p:spPr>
          <a:xfrm>
            <a:off x="974880" y="1290600"/>
            <a:ext cx="7777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79646"/>
                </a:solidFill>
                <a:latin typeface="Arial"/>
              </a:rPr>
              <a:t>A CHD risk tree for the general practice population living in council tax bands D-H in the absence of specific risk factors</a:t>
            </a:r>
            <a:endParaRPr b="0" lang="en-US" sz="14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8000"/>
                </a:solidFill>
                <a:latin typeface="Arial"/>
              </a:rPr>
              <a:t>CHD risk ladder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687240" y="1251000"/>
            <a:ext cx="3152880" cy="527220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4"/>
          <p:cNvSpPr/>
          <p:nvPr/>
        </p:nvSpPr>
        <p:spPr>
          <a:xfrm>
            <a:off x="4430880" y="1274760"/>
            <a:ext cx="5040000" cy="4874400"/>
          </a:xfrm>
          <a:prstGeom prst="rect">
            <a:avLst/>
          </a:prstGeom>
          <a:solidFill>
            <a:srgbClr val="b6c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risk ladder for CHD shows that :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ff8000"/>
                </a:solidFill>
                <a:latin typeface="Arial"/>
                <a:ea typeface="Times New Roman"/>
              </a:rPr>
              <a:t> </a:t>
            </a:r>
            <a:r>
              <a:rPr b="0" lang="en-GB" sz="1600" spc="-1" strike="noStrike">
                <a:solidFill>
                  <a:srgbClr val="ff8000"/>
                </a:solidFill>
                <a:latin typeface="Symbol"/>
                <a:ea typeface="Symbol"/>
              </a:rPr>
              <a:t></a:t>
            </a:r>
            <a:r>
              <a:rPr b="0" lang="en-GB" sz="1600" spc="-1" strike="noStrike">
                <a:solidFill>
                  <a:srgbClr val="ff8000"/>
                </a:solidFill>
                <a:latin typeface="Times New Roman"/>
                <a:ea typeface="Times New Roman"/>
              </a:rPr>
              <a:t> 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emale risk of CHD with no factors present i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0.3% whereas male risk is 0.4%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ff8000"/>
                </a:solidFill>
                <a:latin typeface="Arial"/>
                <a:ea typeface="Times New Roman"/>
              </a:rPr>
              <a:t> </a:t>
            </a:r>
            <a:r>
              <a:rPr b="0" lang="en-GB" sz="1600" spc="-1" strike="noStrike">
                <a:solidFill>
                  <a:srgbClr val="ff8000"/>
                </a:solidFill>
                <a:latin typeface="Symbol"/>
                <a:ea typeface="Symbol"/>
              </a:rPr>
              <a:t>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 a smoker with a high BMI male risk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increases to 3.6% and female risk to 1.5% 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ff8000"/>
                </a:solidFill>
                <a:latin typeface="Arial"/>
                <a:ea typeface="Times New Roman"/>
              </a:rPr>
              <a:t> </a:t>
            </a:r>
            <a:r>
              <a:rPr b="0" lang="en-GB" sz="1600" spc="-1" strike="noStrike">
                <a:solidFill>
                  <a:srgbClr val="ff8000"/>
                </a:solidFill>
                <a:latin typeface="Symbol"/>
                <a:ea typeface="Symbol"/>
              </a:rPr>
              <a:t></a:t>
            </a:r>
            <a:r>
              <a:rPr b="0" lang="en-GB" sz="1600" spc="-1" strike="noStrike">
                <a:solidFill>
                  <a:srgbClr val="ff8000"/>
                </a:solidFill>
                <a:latin typeface="Times New Roman"/>
                <a:ea typeface="Times New Roman"/>
              </a:rPr>
              <a:t> 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ving in a property banded A-C increases th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risk of CHD for males and females with no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other factors to 0.7% and 0.5% 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ff8000"/>
                </a:solidFill>
                <a:latin typeface="Arial"/>
                <a:ea typeface="Times New Roman"/>
              </a:rPr>
              <a:t> </a:t>
            </a:r>
            <a:r>
              <a:rPr b="0" lang="en-GB" sz="1600" spc="-1" strike="noStrike">
                <a:solidFill>
                  <a:srgbClr val="ff8000"/>
                </a:solidFill>
                <a:latin typeface="Symbol"/>
                <a:ea typeface="Symbol"/>
              </a:rPr>
              <a:t></a:t>
            </a:r>
            <a:r>
              <a:rPr b="0" lang="en-GB" sz="1600" spc="-1" strike="noStrike">
                <a:solidFill>
                  <a:srgbClr val="ff8000"/>
                </a:solidFill>
                <a:latin typeface="Times New Roman"/>
                <a:ea typeface="Times New Roman"/>
              </a:rPr>
              <a:t> 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isk increases substantially if hypertension or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diabetes is present. A male smoker with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diabetes has a 7.3% risk increasing to 12.5 % if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BMI over 30. This increases to 15.5% if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diabetes is replaced by hypertension.</a:t>
            </a: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ff8000"/>
                </a:solidFill>
                <a:latin typeface="Arial"/>
                <a:ea typeface="Times New Roman"/>
              </a:rPr>
              <a:t> </a:t>
            </a:r>
            <a:r>
              <a:rPr b="0" lang="en-GB" sz="1600" spc="-1" strike="noStrike">
                <a:solidFill>
                  <a:srgbClr val="ff8000"/>
                </a:solidFill>
                <a:latin typeface="Symbol"/>
                <a:ea typeface="Symbol"/>
              </a:rPr>
              <a:t>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ose in the highest risk categories have mos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risk factors associated but the sample size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are small.</a:t>
            </a:r>
            <a:br>
              <a:rPr sz="1600"/>
            </a:br>
            <a:endParaRPr b="0" lang="en-US" sz="16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7960" y="13788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8000"/>
                </a:solidFill>
                <a:latin typeface="Arial"/>
              </a:rPr>
              <a:t>CHD risk ladder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62120" y="1270080"/>
            <a:ext cx="3163680" cy="529740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4"/>
          <p:cNvSpPr/>
          <p:nvPr/>
        </p:nvSpPr>
        <p:spPr>
          <a:xfrm>
            <a:off x="4518000" y="1938240"/>
            <a:ext cx="5164200" cy="3153960"/>
          </a:xfrm>
          <a:prstGeom prst="rect">
            <a:avLst/>
          </a:prstGeom>
          <a:solidFill>
            <a:srgbClr val="b6c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analysis of the risk ladder shows that the odds of having CHD increase: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4 times if person is a male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3 times if person has BMI&gt;30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7 times if person lives in council tax A-C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9 times if person is smoker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6 times if person has diabetes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2 times if person has hypertension</a:t>
            </a:r>
            <a:endParaRPr b="0" lang="en-US" sz="18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"/>
          <p:cNvPicPr/>
          <p:nvPr/>
        </p:nvPicPr>
        <p:blipFill>
          <a:blip r:embed="rId1"/>
          <a:stretch/>
        </p:blipFill>
        <p:spPr>
          <a:xfrm>
            <a:off x="2270160" y="3666960"/>
            <a:ext cx="5646600" cy="28371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" descr=""/>
          <p:cNvPicPr/>
          <p:nvPr/>
        </p:nvPicPr>
        <p:blipFill>
          <a:blip r:embed="rId2"/>
          <a:stretch/>
        </p:blipFill>
        <p:spPr>
          <a:xfrm>
            <a:off x="2127240" y="858960"/>
            <a:ext cx="5311800" cy="297648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42880" y="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The age dimension: Diagnosis by age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The geographical dimension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rcRect l="0" t="0" r="2562" b="1813"/>
          <a:stretch/>
        </p:blipFill>
        <p:spPr>
          <a:xfrm>
            <a:off x="1262160" y="1693800"/>
            <a:ext cx="3303360" cy="44578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4" descr=""/>
          <p:cNvPicPr/>
          <p:nvPr/>
        </p:nvPicPr>
        <p:blipFill>
          <a:blip r:embed="rId2"/>
          <a:srcRect l="0" t="0" r="3446" b="2509"/>
          <a:stretch/>
        </p:blipFill>
        <p:spPr>
          <a:xfrm>
            <a:off x="5006880" y="1523880"/>
            <a:ext cx="342900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Impact of chronic disease on </a:t>
            </a:r>
            <a:br>
              <a:rPr sz="3200"/>
            </a:b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health care services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he population is ageing and therefore we should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xpect further increases in prevalence. 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Possible impacts could include more: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ctor visit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cription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 referral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agnostic test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atient Visit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spital stay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About the THIN data se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lt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provemen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work data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P Patient registrations, Medical Records (READ codes), Prescription Drug Records and therapeutic values (height, weight, BP, smoker)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m anonymised registrations, but not all uniqu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7960" y="13788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Chronic disease and GP visits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48" name="Picture 3" descr=""/>
          <p:cNvPicPr/>
          <p:nvPr/>
        </p:nvPicPr>
        <p:blipFill>
          <a:blip r:embed="rId1"/>
          <a:srcRect l="63003" t="12852" r="7020" b="31717"/>
          <a:stretch/>
        </p:blipFill>
        <p:spPr>
          <a:xfrm>
            <a:off x="398520" y="1146240"/>
            <a:ext cx="4538520" cy="52480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" descr=""/>
          <p:cNvPicPr/>
          <p:nvPr/>
        </p:nvPicPr>
        <p:blipFill>
          <a:blip r:embed="rId2"/>
          <a:srcRect l="50522" t="42336" r="12965" b="16103"/>
          <a:stretch/>
        </p:blipFill>
        <p:spPr>
          <a:xfrm>
            <a:off x="5006880" y="1650960"/>
            <a:ext cx="45849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Example of impact of chronic disease </a:t>
            </a:r>
            <a:br>
              <a:rPr sz="3200"/>
            </a:b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on GP visits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51" name="Picture 3" descr=""/>
          <p:cNvPicPr/>
          <p:nvPr/>
        </p:nvPicPr>
        <p:blipFill>
          <a:blip r:embed="rId1"/>
          <a:srcRect l="28000" t="19407" r="28913" b="11075"/>
          <a:stretch/>
        </p:blipFill>
        <p:spPr>
          <a:xfrm>
            <a:off x="600120" y="1650960"/>
            <a:ext cx="3800520" cy="494028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4"/>
          <p:cNvSpPr/>
          <p:nvPr/>
        </p:nvSpPr>
        <p:spPr>
          <a:xfrm>
            <a:off x="5440320" y="1809720"/>
            <a:ext cx="3598920" cy="4103640"/>
          </a:xfrm>
          <a:prstGeom prst="rect">
            <a:avLst/>
          </a:prstGeom>
          <a:solidFill>
            <a:srgbClr val="ef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plicative factors for different combinations of five chronic diseases and their impact on annual GP visits: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7960" y="13788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Some particular examples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rcRect l="51742" t="29484" r="26965" b="37271"/>
          <a:stretch/>
        </p:blipFill>
        <p:spPr>
          <a:xfrm>
            <a:off x="544680" y="1001880"/>
            <a:ext cx="4751280" cy="5522760"/>
          </a:xfrm>
          <a:prstGeom prst="rect">
            <a:avLst/>
          </a:prstGeom>
          <a:ln w="0">
            <a:noFill/>
          </a:ln>
        </p:spPr>
      </p:pic>
      <p:sp>
        <p:nvSpPr>
          <p:cNvPr id="755" name="Text Box 4"/>
          <p:cNvSpPr/>
          <p:nvPr/>
        </p:nvSpPr>
        <p:spPr>
          <a:xfrm>
            <a:off x="5870520" y="1649520"/>
            <a:ext cx="35197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Potentially shows for first time the value of taking preventative action on </a:t>
            </a:r>
            <a:br>
              <a:rPr sz="2000"/>
            </a:b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people with or at risk of chronic disease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By delaying the onset of disease both health services gain and patients gain. The economy also gains because people can participate more fully to their potential.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Key questions in need and capacity in health care: CHD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7960" y="2021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urden of CHD in your area?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greater or lesser than expected?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affect some groups more than others- if so who and how many?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be done to reduce the burden in future?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eventive interventions are likely to be effective?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know they are effective?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http://www.nkm.org.uk/flyers/SpecialReports/CDB_Oct05.pdf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39560" y="69048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How do we benefit from disease prevention?</a:t>
            </a:r>
            <a:br>
              <a:rPr sz="3200"/>
            </a:b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rcRect l="27388" t="28732" r="26959" b="54636"/>
          <a:stretch/>
        </p:blipFill>
        <p:spPr>
          <a:xfrm>
            <a:off x="279360" y="1649520"/>
            <a:ext cx="9678960" cy="284004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5"/>
          <p:cNvSpPr/>
          <p:nvPr/>
        </p:nvSpPr>
        <p:spPr>
          <a:xfrm>
            <a:off x="2840040" y="5010120"/>
            <a:ext cx="3759120" cy="4068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onic disease progression</a:t>
            </a:r>
            <a:endParaRPr b="0" lang="en-US" sz="20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CHD survival analysis based on THIN data using best fit curves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0" y="1577880"/>
            <a:ext cx="7407360" cy="471672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4"/>
          <p:cNvSpPr/>
          <p:nvPr/>
        </p:nvSpPr>
        <p:spPr>
          <a:xfrm>
            <a:off x="6878520" y="1967040"/>
            <a:ext cx="2919600" cy="3292920"/>
          </a:xfrm>
          <a:prstGeom prst="rect">
            <a:avLst/>
          </a:prstGeom>
          <a:solidFill>
            <a:srgbClr val="ef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GB" sz="2200" spc="-1" strike="noStrike">
                <a:solidFill>
                  <a:srgbClr val="5f89cd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f7964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2200" spc="-1" strike="noStrike">
                <a:solidFill>
                  <a:srgbClr val="5f89cd"/>
                </a:solidFill>
                <a:latin typeface="Arial"/>
              </a:rPr>
              <a:t>20% of males diagnosed with CHD at age 80 can expect to die within about a year (point A);  if aged 65 20% can expect to die within 7 years (point B)</a:t>
            </a:r>
            <a:endParaRPr b="0" lang="en-US" sz="22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7960" y="13788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Compression of morbidity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7960" y="1290240"/>
            <a:ext cx="9142560" cy="503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General hypothesi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59640" indent="-3596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with early stage diagnoses of one chronic disease at young ag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re likely to acquire further disease before deaths and so the burden of disease accumulates in this way and is spread out over more years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59640" indent="-3596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ies (1980) called this process the ‘compression of morbidity’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imed that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Arial"/>
              </a:rPr>
              <a:t>      “</a:t>
            </a:r>
            <a:r>
              <a:rPr b="1" i="1" lang="en-GB" sz="1800" spc="-1" strike="noStrike">
                <a:solidFill>
                  <a:srgbClr val="002060"/>
                </a:solidFill>
                <a:latin typeface="Arial"/>
              </a:rPr>
              <a:t>whether the period of morbidity is shortened depends very much on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i="1" lang="en-GB" sz="1800" spc="-1" strike="noStrike">
                <a:solidFill>
                  <a:srgbClr val="002060"/>
                </a:solidFill>
                <a:latin typeface="Arial"/>
              </a:rPr>
              <a:t>the average age of onset of the first marker or first heart attack”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marL="359640" indent="-3596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der et al (2005) noted that: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i="1" lang="en-GB" sz="18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i="1" lang="en-GB" sz="1800" spc="-1" strike="noStrike">
                <a:solidFill>
                  <a:srgbClr val="002060"/>
                </a:solidFill>
                <a:latin typeface="Arial"/>
              </a:rPr>
              <a:t>The earlier the onset, the greater the likelihood of a second or third </a:t>
            </a:r>
            <a:br>
              <a:rPr sz="1800"/>
            </a:br>
            <a:r>
              <a:rPr b="1" i="1" lang="en-GB" sz="1800" spc="-1" strike="noStrike">
                <a:solidFill>
                  <a:srgbClr val="002060"/>
                </a:solidFill>
                <a:latin typeface="Arial"/>
              </a:rPr>
              <a:t>disease such as hypertension or diabetes occurring which has the </a:t>
            </a:r>
            <a:br>
              <a:rPr sz="1800"/>
            </a:br>
            <a:r>
              <a:rPr b="1" i="1" lang="en-GB" sz="1800" spc="-1" strike="noStrike">
                <a:solidFill>
                  <a:srgbClr val="002060"/>
                </a:solidFill>
                <a:latin typeface="Arial"/>
              </a:rPr>
              <a:t>effect further increasing healthcare costs through more doctor visits, prescriptions etc”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20560" y="666720"/>
            <a:ext cx="9142560" cy="1271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Local data for CHD needs assessment and service delivery – An example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20560" y="2379240"/>
            <a:ext cx="9358560" cy="5031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records in a sample of GP practices and evaluate prevalence of CHD and chronic disease co-morbidity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with other data to measure risk factor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ally analyse risk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GP data to analyse the relationship between health service usage CHD and co-morbidity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2120" y="253800"/>
            <a:ext cx="8794800" cy="1199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20800" y="1270080"/>
            <a:ext cx="8794800" cy="5276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Some background facts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latory disease accounts for over 40% of all deaths i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the UK and a big cause of premature death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 style factors are known to be important in accelerat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the onset of chronic disease, especially smoking, exercis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and diet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600840" indent="-3056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ifying lifestyle cuts risk of diabetes by over a half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600840" indent="-3056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betes raises risk of CHD in women by up to 8 times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600840" indent="-3056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esity raises risk of hypertension by 30%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600840" indent="-3056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pertension raises risk of CHD by 2-3 times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 can strike at relatively young ages bu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especially over 50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 population ages chronic disease could becom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a crippling burden on the UK economy and healt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care service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Methodology/Data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7240" y="1730160"/>
            <a:ext cx="8786880" cy="3592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ata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ington PCT data – snapshot data covering 25,000 lives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data from council so we could link to housing and other factor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data – GP encounter data over a number of years covering approx 2m patients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search to assess body of health economic literature in this area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542880" y="546732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80"/>
                </a:solidFill>
                <a:latin typeface="Arial"/>
              </a:rPr>
              <a:t>Data source: THIN research database of anonymised patient records: http://www.thin-uk.com/</a:t>
            </a:r>
            <a:endParaRPr b="0" lang="en-US" sz="14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2560" cy="503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Areas of focus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prevalence of chronic diseas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ease combination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ghbourhood analysi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act on health care service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of prevention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63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  <a:p>
            <a:pPr marL="363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Prevalence and co-prevalence of CHD </a:t>
            </a:r>
            <a:br>
              <a:rPr sz="3200"/>
            </a:b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by age (Males)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2212920" y="2063880"/>
            <a:ext cx="10158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646"/>
              </a:solidFill>
              <a:latin typeface="Times New Roman"/>
            </a:endParaRPr>
          </a:p>
        </p:txBody>
      </p:sp>
      <p:graphicFrame>
        <p:nvGraphicFramePr>
          <p:cNvPr id="720" name="Object 4"/>
          <p:cNvGraphicFramePr/>
          <p:nvPr/>
        </p:nvGraphicFramePr>
        <p:xfrm>
          <a:off x="1108080" y="1722600"/>
          <a:ext cx="7788240" cy="474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1722600"/>
                    <a:ext cx="7788240" cy="47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25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Co-prevalence of chronic disease </a:t>
            </a:r>
            <a:br>
              <a:rPr sz="3200"/>
            </a:b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in a large practice population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rcRect l="20700" t="17280" r="24840" b="13608"/>
          <a:stretch/>
        </p:blipFill>
        <p:spPr>
          <a:xfrm>
            <a:off x="1916280" y="1434960"/>
            <a:ext cx="6114960" cy="48531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5"/>
          <p:cNvSpPr/>
          <p:nvPr/>
        </p:nvSpPr>
        <p:spPr>
          <a:xfrm>
            <a:off x="1335240" y="1434960"/>
            <a:ext cx="7272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79646"/>
                </a:solidFill>
                <a:latin typeface="Arial"/>
              </a:rPr>
              <a:t>The co-prevalence of CHD with other chronic diseases including hypertension, stroke, diabetes and COPD</a:t>
            </a:r>
            <a:endParaRPr b="0" lang="en-US" sz="14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7960" y="21096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000"/>
                </a:solidFill>
                <a:latin typeface="Arial"/>
              </a:rPr>
              <a:t>Example of a CHD Risk Tree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726" name="Picture 3" descr=""/>
          <p:cNvPicPr/>
          <p:nvPr/>
        </p:nvPicPr>
        <p:blipFill>
          <a:blip r:embed="rId1"/>
          <a:srcRect l="10348" t="23171" r="10530" b="12134"/>
          <a:stretch/>
        </p:blipFill>
        <p:spPr>
          <a:xfrm>
            <a:off x="906480" y="1146240"/>
            <a:ext cx="7989840" cy="52624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5"/>
          <p:cNvSpPr/>
          <p:nvPr/>
        </p:nvSpPr>
        <p:spPr>
          <a:xfrm>
            <a:off x="974880" y="1074600"/>
            <a:ext cx="8208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79646"/>
                </a:solidFill>
                <a:latin typeface="Arial"/>
              </a:rPr>
              <a:t>A CHD risk tree for the general practice population living in council tax bands A-C indicating the influence of risk factors such as hypertension, diabetes, BMI and gender</a:t>
            </a:r>
            <a:endParaRPr b="0" lang="en-US" sz="1400" spc="-1" strike="noStrike">
              <a:solidFill>
                <a:srgbClr val="f79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2:11:04Z</dcterms:created>
  <dc:creator>Elliott Golsing</dc:creator>
  <dc:description/>
  <dc:language>en-US</dc:language>
  <cp:lastModifiedBy>DH User</cp:lastModifiedBy>
  <dcterms:modified xsi:type="dcterms:W3CDTF">2010-03-17T16:18:43Z</dcterms:modified>
  <cp:revision>37</cp:revision>
  <dc:subject/>
  <dc:title>Slide 1</dc:title>
</cp:coreProperties>
</file>