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</p:sldIdLst>
  <p:sldSz cx="10158413" cy="7621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ldImg"/>
          </p:nvPr>
        </p:nvSpPr>
        <p:spPr>
          <a:xfrm>
            <a:off x="0" y="7545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-50760" bIns="-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2C95-C517-4EC8-A7FE-04E798CE2DD9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4D9B-6900-49E1-B303-DE3A852F8ABB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and pressure is a problem because of risk of advers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patients: clinical harm and distress, costs and inconven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staff: stress, low moral, lack of time for quality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NHS: political sensitivity, media sensationalism, reflecting public conc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2515-A8EF-4578-96EF-93CCF92C9167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92EC-15D9-4129-A8F0-4FC79214E000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E3A4-2FD8-49F5-A69E-7CBFF0A5C0A7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D8D8-623B-4BDA-9A14-71F0B8C47632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A724-03B1-4602-A630-F9CCD801297C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2466-008F-4596-9037-353E23D14B96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EC5-881E-40D6-BC57-03941121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08D-93F1-40E1-A82E-6E8514C5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0A3E43-8D2A-4B36-A556-730F4C0C9BE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7C9569-39FD-4706-884D-9329DFCEDED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D1A66-7C97-4C55-B4C0-0EEC4A63CC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71D20-7411-47CA-B819-9B53C19BAD5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F3B95-F105-4260-B5B4-4739DF08E1F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A7082-3A5B-457D-A8EB-649F8C8C70D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8FD4B-7979-401E-A49B-57000B0D3DD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C5E7F-30FA-4DDD-8134-4005D0BEE5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DD26C-94CF-409D-9141-E330187611B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98169-A7DA-4EBD-8FAD-2B3995170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DF9-823A-49D1-8327-9AD18E81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70E81-72B1-4BFE-9257-06E5C8211F7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4FEC9-EE0D-4F50-BF8F-C30A97E0AC9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35D3C6-FDE9-4F8E-9DEB-537D2AAA02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2D2D7-C977-4B12-9642-A2B031E31CD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F4BC0-DB5F-4F03-AF44-F9D0DC3BFA8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58E01-1D62-47E3-910D-D39E17315FB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A95AA-4324-4919-842B-FF4F318D929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E220D0-FD58-47B3-84BC-B6AC3ACF8CA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A3C5E-C26D-4198-BCB5-B275A95705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5C96C-0BBC-44AD-B43A-0F1F7B006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E33-E41D-4146-B749-CA518483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8AC67-01C8-4163-899D-AA16AE7060B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E935-E539-42C8-9FB0-4EF49531601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F4124-F527-470C-B535-D5CE5F810FB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D1CA-2C56-46D6-A1EC-F45F5632DF4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53315-8171-488D-87D8-C004A870B3C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5F087-CBC1-4889-A2B7-536FAB0CDF7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185C-9ECB-4349-9752-87360D35791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6A24-8A6D-435F-9BF3-C78E4560C75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24F37-1E1E-49D4-89CC-754889B730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4D7A-9721-4A3A-9C6E-8AA94620B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C5D6-D904-49A3-A4AB-83258850157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37846-9BB3-41AB-A1A9-DFF8513AD4F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594D5-4A19-4B58-84DB-4EBFBBB3B83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DB06D-205E-4209-83C1-2584140719D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8B9BCB-C192-416B-825B-5F4582CD496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48FC63-22EC-4BD6-82CC-5553792F52F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B8C338-21C8-4555-B32C-FCEA6CC14E3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CDC854-1010-4275-A9A4-36DF3D6798C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A58861-73DF-403E-9611-60A54E11446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169504-BD2A-4E39-94E4-0D22352956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10DBE-E444-4178-94DA-FA5E194E596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88E38C-976F-4272-9251-CE4813A9939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E53108-821A-4F3C-92CE-5B66F4C4EDD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10607-D534-4756-A6CE-BC87094BA2D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BADFE8-1286-4AD6-9620-5C4B8031DC1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4DEE7-E3DB-4E4B-B3E5-A579A12E6EB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139BC-4417-4E9B-B277-7EC4C10A15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8A76B-2ABC-4B3B-B47E-2A6AFF9A855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553AE-1298-4271-8C05-37D2DF2B8BF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5FB14-8175-413A-AD97-936EC1995E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A2237-7B1C-465A-AD31-7880DE7ED4D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225DF-8C96-4467-941B-C94B4339091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E1F07-5F97-46E7-A97D-6DD2E8EF8F2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21A7B-7BF9-4B69-BD4A-F0D4A522CBC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597C1-B64D-4341-B4E3-EE537C47917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A9FAA-ADAB-428D-9EAD-50BADAB01DC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5BD55-8C4F-4B2C-9FE6-9DAC754D539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D9B8B-8A6A-49B1-AB92-B07AA3995CB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4F545-98C6-400C-A6F1-8EA3CA9DFA7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1E49C-E901-4DB2-ABB6-7EA6CA5625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F2087-FF83-494A-B917-C15456B2EB9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A9A5-48B2-421E-9D4A-BEB472AF8C9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9184D-F203-4575-BB2D-14D653280D3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84759-09BE-4E97-BB62-03088D24189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CBE40-4DA3-4494-9641-A701D53E532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CFDB-06D7-4CBF-8760-47ED69ADF12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F7F9D-80B6-451F-8AD4-E1F1EB7DDE2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7C04-3DDB-4EB6-94EA-5F6DD9908D2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00ACB-AE6B-48F4-88A9-25285161E34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6BED9B-8742-4ADA-A9A6-043EB6DC56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45E3A9-29CF-4037-9668-AC37F1CDE09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924718-011E-43BD-85C7-A522295D039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5D16F2-7EB4-4810-9C2D-EB3CDAE411E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152E7E-1C85-49B2-832F-8FB1056DFD9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615493-B843-4D4B-9C8F-F161C98BFD7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999235-E73E-445F-879E-07DA35DB17D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FA11CC-4690-40D9-8287-5545ABB6FCF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83A947-8093-4BCC-B238-D2777AAA7AE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677B42-0871-44FE-BACD-C94DDB4FC38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3EEBC-6276-4617-A00B-E696985346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998190-CAED-4CA2-B6B1-A5C63726729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3CB1C-4CF3-495E-B430-48C8067E42B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29369-B057-48F5-95E5-6E21158FDE1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7C5A6-1D57-48E8-9E0B-D9FCD7441D8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E2B36-6A2F-443A-9F1A-C1A890F32DD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C0DFF-DC5C-429A-B375-2F70F0DD172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62449-E736-4ED7-8090-38997C62C2F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B724E-6447-4BD0-BEF4-ACFB3EA4E3C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73F78-D8D2-4CC0-9895-1935F0B09DB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6D3AF-C61B-4782-BBBC-9DEFD483A6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8A0E4-48D1-46E7-B4BC-0F9FFA17F85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E5FC1-B5A9-427A-92FE-66ED6EA813D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14E03-9E21-4FD8-B12C-B05415EF4C4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354A6-5F5B-4C57-8180-D5943BB674D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8F506-99C7-4669-8D57-779DF788AD5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CF4C8-C652-46BA-8A7D-C2D3EF1124A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79C75-85F4-45D8-85F8-8F2DF87BBB4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3A27D-1253-4F76-8382-E2857098EF3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58DB4-EE8B-4A57-A100-DB1F40A7D69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ED375-E17A-4A3E-99AF-628CD919FE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618-05B7-44E7-BC4C-7EA1E1C2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427B5-CC13-46C7-9B5C-BB8D6257D5D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8F9DF-8143-465D-B1FF-932DDDAE254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76BFB-D158-4962-BD87-227B3D6C7D3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028C2-AC9B-41F0-80FD-36CA554901D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A265C-3AB9-43AD-A391-EE8B38BBCAA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E40CE-CF63-49D5-BB70-A0A55A3E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8B7C0-E6EA-4457-959E-3110C51F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7EBB1-BE2E-4DF5-A0BB-B92BE9D6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83E6-DF77-4464-9B1A-5F85E825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D900D-6971-4E6F-9FA9-DE4D1F3C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6256D-AA4C-4FFA-AC53-A526081D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996D1-9169-4C1A-8FEF-35C6F60F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1AE3-BB40-444C-BED9-13EAD8B4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E9CC7-55D6-421C-BBD3-C617DA7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BD118-EF06-43A6-BA5C-CAC8993B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1D652-1E7B-4E6B-99C9-EF3D4D8E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390FE-0770-4B93-AC2A-1522C254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2D84C-CC99-4DC7-8891-A797842155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3A6D3-EA4F-411C-8860-2AB663F019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A9814-20C3-4F0E-8CB8-A392F3DDE9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A8183-4965-4F8E-8621-5B7C12F28F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FAAC6-570F-47C8-B46E-87A9B9155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E3C-8503-4415-BE7F-67EAB9E6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56770-7255-4A5C-B224-2CC7C20EBF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EC4A8-1DD4-46EE-9B44-0101D271D3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EDDA2-F508-477E-BEE5-0AFEEAA052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03F0F-A2CF-4959-99AF-B1D013B16D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4B040-2093-484D-9428-313A1446F1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E41B6-F870-4956-B366-ED2A4CA9EB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4DC2E-A975-458E-A948-0243D8506A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CF8F5-CAB5-4A35-9040-18ED805B94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1727B-264B-40B4-89EC-74D425110E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B0AA3-345E-4AB7-BCB5-2B253B053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E9C-FD57-48CF-B3B5-17F0150D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ABAB8-38FB-473E-9467-C8D44E85DD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9B250-1EF0-496A-B99A-57DB015F56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B6D65-CECE-43A1-9CFD-18ECC305A0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3E196-CFEC-4451-AD94-DAF8A2C905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BFBA8-B32A-4F26-A657-9CA53F0B39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BA328-B2DB-4208-B24D-5DBE2278A7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BF9F1-F8D4-458E-BE27-13D52C9F46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B79BF-E5E6-4A5A-B2A0-403041B8A9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C285E-FBE1-4260-B5C8-FD21DFAE22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B92D-3C95-44AF-8B34-322161DDA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48F-0023-4D50-A367-67573AFB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708F-1392-4B96-86AF-71E54AC1A0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2785-FCC0-4C9B-8DE0-F13AD93C5A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F6EF-B227-4A9E-AB38-E6BAAC8725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4A55-7AC1-4364-91F6-313F3F196BF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4208-5733-427B-9C09-F7F292B71E8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123D-E8BA-4AB1-9EA5-3BEBCEC233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572A-8D0D-4552-B465-87369018D38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9C81-9AF3-49C0-BEFD-F4C66C7B14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86AF-9A66-4E9D-B266-3B5F64C2422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5FFC-00BC-4EFB-9D86-64B4D6402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D85-0D70-486D-A894-95AC4508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0D0D-C60C-4B64-BDFD-19254AC9F56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FADFE-4441-47C5-9A87-AEFBED850C3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0FDAD-CB04-4224-BECD-97C4EBF8EA5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A02987-B2D2-4995-AF14-873FE5EB76F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3E7A4-9AF4-4B5A-B935-53E7BBDBC3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C49350-7161-4EBC-9A12-F86C8218F9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0C5EA-9F65-477B-9D75-D7BDF91B223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42FC6-3105-45EC-BB66-86B4E55A00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83B16-B9F9-4C80-84E5-F4AD06A822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A48DC-ADCA-4779-B524-4437C8AEE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D2A-BDE8-4B0A-A263-E79EAAD2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978E9-F898-4D9B-8E68-4CB4BD7F77B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22E88-0315-47F7-A5AA-EE68E158FDA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09E8CF-6DD8-4ACC-AD3E-50B221D33F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F3F21-1C2D-45C1-AAA7-EFDAE8B9B9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67334-97DB-4C5C-9396-CE57673D42F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73471-17A6-42E7-B192-2DE4BD8D27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C0D34-398B-4A57-A3F4-B1D7744D99C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F99F1-8377-47DC-A806-EB4632BCC3D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F775D-A6E1-40B9-9093-71195614B44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70EEC-BB28-4BDD-B736-748DEEB58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C5C-6188-4C57-9A41-4FC397BF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6EC19-35D6-48FB-9D56-96643AFF0E4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67EF5-CAC0-4341-BB0E-73B640AE64D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10AE1-B6F5-40B2-A011-28ECB332F39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287D3-E639-43BE-A32E-64CC0ABDE8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62813-CDC3-4704-B135-FDD12348289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4604-B2FD-4398-8FB3-C1E84F9991A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1F4D-7FB2-4F57-80F4-A72DD52C080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8FEE-7133-4F0B-8747-5D60C84D8ED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0EDD-9952-4AFA-B4BC-9C21E328C8E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97A2-892A-49BB-9853-990EA7B94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A9F-91AA-44BC-B2A3-6AB4670D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E9EE-33C3-4507-8CBD-AFA64F5A9D9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849B-1417-4239-A8C8-49CA7D2764D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E694C-2DFC-42EC-B26B-6F49B9B50F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A914-A9C5-41F0-BC57-2E74857AB87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D201-9AC9-4CE7-BA47-6FFA66544C2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4D23C-83A0-4DFE-BBEA-A3FD2C56CBD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CB18-B34B-44A1-B00A-1985616876B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D228D2-889F-476F-8B2A-E4B2C93B57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CBCDCF-B503-4B0C-9F91-8301C3817C4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EE24B-CE4E-4E0F-AFD5-53375D445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796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0A09-4E70-4DDA-9ACC-4193CBF3868B}" type="datetime">
              <a:rPr b="0" lang="en-US" sz="1300" spc="-1" strike="noStrike">
                <a:solidFill>
                  <a:srgbClr val="898c9d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70400" y="7063920"/>
            <a:ext cx="321768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8028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E9AD-1231-4523-9A85-322B059C4C79}" type="slidenum">
              <a:rPr b="0" lang="en-GB" sz="13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372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1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27AD-381D-4D58-893D-50C5C534E7D6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12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17B1-2AE2-45D1-9F14-C9D44AEA16A0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3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8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C173-DA7A-47E5-82FB-1FBACDB037B8}" type="slidenum">
              <a:rPr b="0" lang="en-GB" sz="1200" spc="-1" strike="noStrike">
                <a:solidFill>
                  <a:srgbClr val="000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95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14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D82D-C572-4D93-BFFA-7A6719480648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536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15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B854-3D8B-45A4-A052-A4F51A0D0973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16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8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306A-0992-4536-AAF0-778E1214D04C}" type="slidenum">
              <a:rPr b="0" lang="en-GB" sz="1200" spc="-1" strike="noStrike">
                <a:solidFill>
                  <a:srgbClr val="000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619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Num" idx="17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4A38-D31C-4DC6-9C05-8C1B68D2F774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660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Num" idx="18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2F9F-9756-4335-AB82-750E00697DBD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7"/>
          <p:cNvSpPr/>
          <p:nvPr/>
        </p:nvSpPr>
        <p:spPr>
          <a:xfrm>
            <a:off x="228600" y="716904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LM//DL/HK © 2010</a:t>
            </a:r>
            <a:endParaRPr b="0" lang="en-US" sz="1000" spc="-1" strike="noStrike">
              <a:solidFill>
                <a:srgbClr val="f79646"/>
              </a:solidFill>
              <a:latin typeface="Times New Roman"/>
            </a:endParaRPr>
          </a:p>
        </p:txBody>
      </p:sp>
      <p:pic>
        <p:nvPicPr>
          <p:cNvPr id="704" name="Picture 42" descr="JagzNkm Logo BLUE 300"/>
          <p:cNvPicPr/>
          <p:nvPr/>
        </p:nvPicPr>
        <p:blipFill>
          <a:blip r:embed="rId3"/>
          <a:stretch/>
        </p:blipFill>
        <p:spPr>
          <a:xfrm>
            <a:off x="2558880" y="6959520"/>
            <a:ext cx="852480" cy="59544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19"/>
          </p:nvPr>
        </p:nvSpPr>
        <p:spPr>
          <a:xfrm>
            <a:off x="50796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20"/>
          </p:nvPr>
        </p:nvSpPr>
        <p:spPr>
          <a:xfrm>
            <a:off x="3470400" y="7063920"/>
            <a:ext cx="321768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21"/>
          </p:nvPr>
        </p:nvSpPr>
        <p:spPr>
          <a:xfrm>
            <a:off x="728028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6DC3-C17D-4CF7-9E7C-05F65C29673D}" type="slidenum">
              <a:rPr b="0" lang="en-US" sz="13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HK PPT template2.jpg"/>
          <p:cNvPicPr/>
          <p:nvPr/>
        </p:nvPicPr>
        <p:blipFill>
          <a:blip r:embed="rId2"/>
          <a:stretch/>
        </p:blipFill>
        <p:spPr>
          <a:xfrm>
            <a:off x="6480" y="0"/>
            <a:ext cx="10145520" cy="76215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8600" y="716904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LM//DL/HK © 2010</a:t>
            </a:r>
            <a:endParaRPr b="0" lang="en-US" sz="1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83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05EF-19ED-4E08-9035-9EE6DCED9595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26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EB60-9D31-4BC1-845C-73341995E823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6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246A-6763-4994-B0E9-8C0795E3DB57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56F3-B96E-409C-B700-9902FB8C0913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47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DC52-D4BE-44F9-B661-C1D2C253624B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88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9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8A6A-4B83-4234-9C46-88036C1CF4AA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331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0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AF21-3482-40C7-B2B2-3BEB650402BE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1640" y="431280"/>
            <a:ext cx="9360000" cy="107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Public Health Module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692000"/>
            <a:ext cx="9360000" cy="966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nu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1" name="Line 10"/>
          <p:cNvSpPr/>
          <p:nvPr/>
        </p:nvSpPr>
        <p:spPr>
          <a:xfrm>
            <a:off x="0" y="2809800"/>
            <a:ext cx="101584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471600" y="3033720"/>
            <a:ext cx="8712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Health Services Planning in a 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World Class Commissioning Environment: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Afternoon session: </a:t>
            </a:r>
            <a:r>
              <a:rPr b="1" lang="en-GB" sz="2400" spc="-1" strike="noStrike">
                <a:solidFill>
                  <a:srgbClr val="ff8000"/>
                </a:solidFill>
                <a:latin typeface="Arial"/>
                <a:ea typeface="Arial"/>
              </a:rPr>
              <a:t>Introduction to Exercise 2  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000"/>
                </a:solidFill>
                <a:latin typeface="Arial"/>
                <a:ea typeface="Arial"/>
              </a:rPr>
              <a:t>Demand, capacity and performance in health care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avid Lawrenc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e public health consultant, PHAST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n senior  lecturer, London School of Hygiene and Tropical Medicin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pic>
        <p:nvPicPr>
          <p:cNvPr id="753" name="Picture 42" descr="JagzNkm Logo BLUE 300"/>
          <p:cNvPicPr/>
          <p:nvPr/>
        </p:nvPicPr>
        <p:blipFill>
          <a:blip r:embed="rId1"/>
          <a:stretch/>
        </p:blipFill>
        <p:spPr>
          <a:xfrm>
            <a:off x="2558880" y="6959520"/>
            <a:ext cx="852480" cy="5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2"/>
          <p:cNvSpPr/>
          <p:nvPr/>
        </p:nvSpPr>
        <p:spPr>
          <a:xfrm>
            <a:off x="542880" y="1523880"/>
            <a:ext cx="8550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What general concepts would you use to assess health care performance?</a:t>
            </a: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55" name="Text Box 3"/>
          <p:cNvSpPr/>
          <p:nvPr/>
        </p:nvSpPr>
        <p:spPr>
          <a:xfrm>
            <a:off x="542880" y="3309840"/>
            <a:ext cx="643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415800" indent="-41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of ‘performance’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cy       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iveness 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2"/>
          <p:cNvSpPr/>
          <p:nvPr/>
        </p:nvSpPr>
        <p:spPr>
          <a:xfrm>
            <a:off x="542880" y="930240"/>
            <a:ext cx="9518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Hospitals in terms of demand, capacity </a:t>
            </a:r>
            <a:br>
              <a:rPr sz="3200"/>
            </a:b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and performance</a:t>
            </a: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3132000" y="4233960"/>
            <a:ext cx="2541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58" name="Line 8"/>
          <p:cNvSpPr/>
          <p:nvPr/>
        </p:nvSpPr>
        <p:spPr>
          <a:xfrm>
            <a:off x="2038320" y="4371840"/>
            <a:ext cx="801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279360" y="4051440"/>
            <a:ext cx="1758960" cy="59364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434880" y="4097160"/>
            <a:ext cx="159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1" name="Text Box 18"/>
          <p:cNvSpPr/>
          <p:nvPr/>
        </p:nvSpPr>
        <p:spPr>
          <a:xfrm>
            <a:off x="6759720" y="4130640"/>
            <a:ext cx="3119400" cy="59364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2" name="Line 19"/>
          <p:cNvSpPr/>
          <p:nvPr/>
        </p:nvSpPr>
        <p:spPr>
          <a:xfrm>
            <a:off x="5959440" y="4371840"/>
            <a:ext cx="8002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3" name="Text Box 20"/>
          <p:cNvSpPr/>
          <p:nvPr/>
        </p:nvSpPr>
        <p:spPr>
          <a:xfrm>
            <a:off x="2840040" y="3726000"/>
            <a:ext cx="3119400" cy="13309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4" name="Text Box 21"/>
          <p:cNvSpPr/>
          <p:nvPr/>
        </p:nvSpPr>
        <p:spPr>
          <a:xfrm>
            <a:off x="3159000" y="3730680"/>
            <a:ext cx="214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5" name="Text Box 22"/>
          <p:cNvSpPr/>
          <p:nvPr/>
        </p:nvSpPr>
        <p:spPr>
          <a:xfrm>
            <a:off x="520560" y="3330720"/>
            <a:ext cx="1479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6" name="Text Box 23"/>
          <p:cNvSpPr/>
          <p:nvPr/>
        </p:nvSpPr>
        <p:spPr>
          <a:xfrm>
            <a:off x="7397640" y="3330720"/>
            <a:ext cx="1760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7" name="Text Box 24"/>
          <p:cNvSpPr/>
          <p:nvPr/>
        </p:nvSpPr>
        <p:spPr>
          <a:xfrm>
            <a:off x="6918480" y="4132440"/>
            <a:ext cx="2960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3"/>
          <p:cNvSpPr/>
          <p:nvPr/>
        </p:nvSpPr>
        <p:spPr>
          <a:xfrm>
            <a:off x="506520" y="595440"/>
            <a:ext cx="92170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"/>
              </a:rPr>
              <a:t>Size of community demand on hospitals</a:t>
            </a:r>
            <a:endParaRPr b="0" lang="en-US" sz="3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69" name="Text Box 6"/>
          <p:cNvSpPr/>
          <p:nvPr/>
        </p:nvSpPr>
        <p:spPr>
          <a:xfrm>
            <a:off x="290160" y="1730520"/>
            <a:ext cx="2389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Communitie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4578480" y="3452760"/>
            <a:ext cx="2381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emand for hospital care from  the 3 communitie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1" name="Text Box 12"/>
          <p:cNvSpPr/>
          <p:nvPr/>
        </p:nvSpPr>
        <p:spPr>
          <a:xfrm>
            <a:off x="0" y="4597560"/>
            <a:ext cx="5006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ctors affecting demand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population from each community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illness per person 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ness behaviour/threshol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2" name="Line 13"/>
          <p:cNvSpPr/>
          <p:nvPr/>
        </p:nvSpPr>
        <p:spPr>
          <a:xfrm flipV="1">
            <a:off x="8042400" y="2709720"/>
            <a:ext cx="0" cy="12700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3" name="Text Box 14"/>
          <p:cNvSpPr/>
          <p:nvPr/>
        </p:nvSpPr>
        <p:spPr>
          <a:xfrm>
            <a:off x="7110360" y="3979800"/>
            <a:ext cx="2541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ssion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4" name="Line 16"/>
          <p:cNvSpPr/>
          <p:nvPr/>
        </p:nvSpPr>
        <p:spPr>
          <a:xfrm>
            <a:off x="3719520" y="4290840"/>
            <a:ext cx="343836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5" name="Line 24"/>
          <p:cNvSpPr/>
          <p:nvPr/>
        </p:nvSpPr>
        <p:spPr>
          <a:xfrm>
            <a:off x="8294760" y="445464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6" name="Text Box 26"/>
          <p:cNvSpPr/>
          <p:nvPr/>
        </p:nvSpPr>
        <p:spPr>
          <a:xfrm>
            <a:off x="7887240" y="5168880"/>
            <a:ext cx="1660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ital 2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77" name="Text Box 27"/>
          <p:cNvSpPr/>
          <p:nvPr/>
        </p:nvSpPr>
        <p:spPr>
          <a:xfrm>
            <a:off x="7457400" y="2201760"/>
            <a:ext cx="1746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ital  1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pic>
        <p:nvPicPr>
          <p:cNvPr id="778" name="Picture 36" descr="MCPE06219_0000[1]"/>
          <p:cNvPicPr/>
          <p:nvPr/>
        </p:nvPicPr>
        <p:blipFill>
          <a:blip r:embed="rId1"/>
          <a:stretch/>
        </p:blipFill>
        <p:spPr>
          <a:xfrm>
            <a:off x="760320" y="2530440"/>
            <a:ext cx="3240360" cy="2068560"/>
          </a:xfrm>
          <a:prstGeom prst="rect">
            <a:avLst/>
          </a:prstGeom>
          <a:ln w="0">
            <a:noFill/>
          </a:ln>
        </p:spPr>
      </p:pic>
      <p:sp>
        <p:nvSpPr>
          <p:cNvPr id="779" name="TextBox 12"/>
          <p:cNvSpPr/>
          <p:nvPr/>
        </p:nvSpPr>
        <p:spPr>
          <a:xfrm>
            <a:off x="5316480" y="5597640"/>
            <a:ext cx="38894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on a hospital  is proportional to size of ‘catchment population’ of the hospital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48"/>
          <p:cNvSpPr/>
          <p:nvPr/>
        </p:nvSpPr>
        <p:spPr>
          <a:xfrm>
            <a:off x="7794720" y="2238480"/>
            <a:ext cx="2077920" cy="42840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81" name="Text Box 15"/>
          <p:cNvSpPr/>
          <p:nvPr/>
        </p:nvSpPr>
        <p:spPr>
          <a:xfrm>
            <a:off x="7743960" y="2238480"/>
            <a:ext cx="2139840" cy="311940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2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s from A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s from B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s from C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,8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 admissions 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,8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82" name="Rectangle 45"/>
          <p:cNvSpPr/>
          <p:nvPr/>
        </p:nvSpPr>
        <p:spPr>
          <a:xfrm>
            <a:off x="434880" y="1738440"/>
            <a:ext cx="1935360" cy="47916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83" name="Text Box 2"/>
          <p:cNvSpPr/>
          <p:nvPr/>
        </p:nvSpPr>
        <p:spPr>
          <a:xfrm>
            <a:off x="0" y="569880"/>
            <a:ext cx="101584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Demand on hospitals – calculating catchment populations, stage 1 – hospital admissions from each community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84" name="Line 8"/>
          <p:cNvSpPr/>
          <p:nvPr/>
        </p:nvSpPr>
        <p:spPr>
          <a:xfrm flipV="1">
            <a:off x="5722920" y="3811320"/>
            <a:ext cx="3357720" cy="2854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3571920" y="1512720"/>
            <a:ext cx="3173400" cy="20725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86" name="Line 13"/>
          <p:cNvSpPr/>
          <p:nvPr/>
        </p:nvSpPr>
        <p:spPr>
          <a:xfrm>
            <a:off x="5865840" y="2381400"/>
            <a:ext cx="3286080" cy="857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87" name="Line 14"/>
          <p:cNvSpPr/>
          <p:nvPr/>
        </p:nvSpPr>
        <p:spPr>
          <a:xfrm flipV="1">
            <a:off x="5722920" y="4382640"/>
            <a:ext cx="3429000" cy="13575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88" name="Text Box 18"/>
          <p:cNvSpPr/>
          <p:nvPr/>
        </p:nvSpPr>
        <p:spPr>
          <a:xfrm>
            <a:off x="3879720" y="1600200"/>
            <a:ext cx="2454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A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,000 = 80%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,000 = 20%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,000  Total 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89" name="Text Box 20"/>
          <p:cNvSpPr/>
          <p:nvPr/>
        </p:nvSpPr>
        <p:spPr>
          <a:xfrm>
            <a:off x="3571920" y="4811760"/>
            <a:ext cx="3093840" cy="20725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0" name="Text Box 21"/>
          <p:cNvSpPr/>
          <p:nvPr/>
        </p:nvSpPr>
        <p:spPr>
          <a:xfrm>
            <a:off x="3571920" y="3166920"/>
            <a:ext cx="3093840" cy="20725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1" name="Text Box 22"/>
          <p:cNvSpPr/>
          <p:nvPr/>
        </p:nvSpPr>
        <p:spPr>
          <a:xfrm>
            <a:off x="3492360" y="3333600"/>
            <a:ext cx="3119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B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000 = 50%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000 = 50%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,000 Total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2" name="Text Box 24"/>
          <p:cNvSpPr/>
          <p:nvPr/>
        </p:nvSpPr>
        <p:spPr>
          <a:xfrm>
            <a:off x="3645000" y="5025960"/>
            <a:ext cx="2935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C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200 = 40%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,800 = 60%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,000 Total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3" name="Line 26"/>
          <p:cNvSpPr/>
          <p:nvPr/>
        </p:nvSpPr>
        <p:spPr>
          <a:xfrm flipH="1" flipV="1">
            <a:off x="1077480" y="4454640"/>
            <a:ext cx="3357720" cy="10000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4" name="Line 30"/>
          <p:cNvSpPr/>
          <p:nvPr/>
        </p:nvSpPr>
        <p:spPr>
          <a:xfrm flipH="1" flipV="1">
            <a:off x="1149120" y="3595680"/>
            <a:ext cx="3214440" cy="21600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5" name="Line 31"/>
          <p:cNvSpPr/>
          <p:nvPr/>
        </p:nvSpPr>
        <p:spPr>
          <a:xfrm flipH="1">
            <a:off x="1077840" y="2095560"/>
            <a:ext cx="3200400" cy="71424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6" name="Text Box 36"/>
          <p:cNvSpPr/>
          <p:nvPr/>
        </p:nvSpPr>
        <p:spPr>
          <a:xfrm>
            <a:off x="363600" y="1763640"/>
            <a:ext cx="2286000" cy="366804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1 </a:t>
            </a:r>
            <a:br>
              <a:rPr sz="1800"/>
            </a:b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s from A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s from B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s from C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2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 admissions 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,2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2"/>
          <p:cNvSpPr/>
          <p:nvPr/>
        </p:nvSpPr>
        <p:spPr>
          <a:xfrm>
            <a:off x="7937640" y="2881440"/>
            <a:ext cx="1935000" cy="44424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363600" y="1309680"/>
            <a:ext cx="1935000" cy="47952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104760" y="334800"/>
            <a:ext cx="101584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Demand on hospitals – calculating catchment 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populations stage 2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3639960" y="1011240"/>
            <a:ext cx="3278520" cy="20725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1" name="Line 7"/>
          <p:cNvSpPr/>
          <p:nvPr/>
        </p:nvSpPr>
        <p:spPr>
          <a:xfrm>
            <a:off x="6365880" y="2166840"/>
            <a:ext cx="2714760" cy="20019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2" name="Line 8"/>
          <p:cNvSpPr/>
          <p:nvPr/>
        </p:nvSpPr>
        <p:spPr>
          <a:xfrm flipV="1">
            <a:off x="6651720" y="5240160"/>
            <a:ext cx="2428920" cy="8575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7937640" y="2881440"/>
            <a:ext cx="1946160" cy="34549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2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chment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,8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,2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8,000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3879720" y="1090440"/>
            <a:ext cx="24544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A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0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3639960" y="4668840"/>
            <a:ext cx="3278520" cy="20725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3639960" y="2797200"/>
            <a:ext cx="3278520" cy="20725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7" name="Text Box 13"/>
          <p:cNvSpPr/>
          <p:nvPr/>
        </p:nvSpPr>
        <p:spPr>
          <a:xfrm>
            <a:off x="3479760" y="2930400"/>
            <a:ext cx="311940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B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8" name="Text Box 14"/>
          <p:cNvSpPr/>
          <p:nvPr/>
        </p:nvSpPr>
        <p:spPr>
          <a:xfrm>
            <a:off x="3787920" y="5025960"/>
            <a:ext cx="29350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C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,0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09" name="Line 15"/>
          <p:cNvSpPr/>
          <p:nvPr/>
        </p:nvSpPr>
        <p:spPr>
          <a:xfrm flipH="1" flipV="1">
            <a:off x="1149480" y="3738600"/>
            <a:ext cx="2714400" cy="228744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0" name="Line 17"/>
          <p:cNvSpPr/>
          <p:nvPr/>
        </p:nvSpPr>
        <p:spPr>
          <a:xfrm flipH="1">
            <a:off x="1292040" y="2166840"/>
            <a:ext cx="2571480" cy="4287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2286720" y="3133800"/>
            <a:ext cx="306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7964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363600" y="1309680"/>
            <a:ext cx="1946160" cy="34549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1 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chment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,2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,80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8,000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3" name="Text Box 24"/>
          <p:cNvSpPr/>
          <p:nvPr/>
        </p:nvSpPr>
        <p:spPr>
          <a:xfrm>
            <a:off x="5959440" y="4051440"/>
            <a:ext cx="882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4" name="Text Box 25"/>
          <p:cNvSpPr/>
          <p:nvPr/>
        </p:nvSpPr>
        <p:spPr>
          <a:xfrm>
            <a:off x="3753000" y="5883120"/>
            <a:ext cx="1039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5" name="Text Box 26"/>
          <p:cNvSpPr/>
          <p:nvPr/>
        </p:nvSpPr>
        <p:spPr>
          <a:xfrm>
            <a:off x="5962680" y="1889280"/>
            <a:ext cx="723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6" name="Rectangle 27"/>
          <p:cNvSpPr/>
          <p:nvPr/>
        </p:nvSpPr>
        <p:spPr>
          <a:xfrm>
            <a:off x="3843720" y="1930320"/>
            <a:ext cx="659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7" name="Text Box 30"/>
          <p:cNvSpPr/>
          <p:nvPr/>
        </p:nvSpPr>
        <p:spPr>
          <a:xfrm>
            <a:off x="6042600" y="5883120"/>
            <a:ext cx="659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8" name="Text Box 31"/>
          <p:cNvSpPr/>
          <p:nvPr/>
        </p:nvSpPr>
        <p:spPr>
          <a:xfrm>
            <a:off x="3843720" y="4049640"/>
            <a:ext cx="659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19" name="Line 8"/>
          <p:cNvSpPr/>
          <p:nvPr/>
        </p:nvSpPr>
        <p:spPr>
          <a:xfrm>
            <a:off x="6580080" y="4311720"/>
            <a:ext cx="2498760" cy="42840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0" name="Line 15"/>
          <p:cNvSpPr/>
          <p:nvPr/>
        </p:nvSpPr>
        <p:spPr>
          <a:xfrm flipH="1" flipV="1">
            <a:off x="1220760" y="3166560"/>
            <a:ext cx="2643120" cy="107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2"/>
          <p:cNvSpPr/>
          <p:nvPr/>
        </p:nvSpPr>
        <p:spPr>
          <a:xfrm>
            <a:off x="534960" y="793800"/>
            <a:ext cx="8864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Internal hospital capacity: factors affecting  ability to admit</a:t>
            </a: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2" name="Text Box 3"/>
          <p:cNvSpPr/>
          <p:nvPr/>
        </p:nvSpPr>
        <p:spPr>
          <a:xfrm>
            <a:off x="3817440" y="2166840"/>
            <a:ext cx="1490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3" name="Text Box 4"/>
          <p:cNvSpPr/>
          <p:nvPr/>
        </p:nvSpPr>
        <p:spPr>
          <a:xfrm>
            <a:off x="254160" y="3738600"/>
            <a:ext cx="2381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ssion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3000240" y="3024360"/>
            <a:ext cx="3300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bed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5" name="Line 6"/>
          <p:cNvSpPr/>
          <p:nvPr/>
        </p:nvSpPr>
        <p:spPr>
          <a:xfrm>
            <a:off x="338040" y="4525920"/>
            <a:ext cx="254016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6" name="Text Box 7"/>
          <p:cNvSpPr/>
          <p:nvPr/>
        </p:nvSpPr>
        <p:spPr>
          <a:xfrm>
            <a:off x="7616880" y="3666960"/>
            <a:ext cx="2541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7" name="Line 8"/>
          <p:cNvSpPr/>
          <p:nvPr/>
        </p:nvSpPr>
        <p:spPr>
          <a:xfrm>
            <a:off x="7534440" y="4525920"/>
            <a:ext cx="23698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8" name="Text Box 9"/>
          <p:cNvSpPr/>
          <p:nvPr/>
        </p:nvSpPr>
        <p:spPr>
          <a:xfrm>
            <a:off x="3089160" y="4025880"/>
            <a:ext cx="2119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stay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29" name="Text Box 10"/>
          <p:cNvSpPr/>
          <p:nvPr/>
        </p:nvSpPr>
        <p:spPr>
          <a:xfrm>
            <a:off x="2878200" y="2738520"/>
            <a:ext cx="4656240" cy="35557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30" name="Text Box 11"/>
          <p:cNvSpPr/>
          <p:nvPr/>
        </p:nvSpPr>
        <p:spPr>
          <a:xfrm>
            <a:off x="3093840" y="3452760"/>
            <a:ext cx="260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bed occupancy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31" name="Text Box 12"/>
          <p:cNvSpPr/>
          <p:nvPr/>
        </p:nvSpPr>
        <p:spPr>
          <a:xfrm>
            <a:off x="3000240" y="4525920"/>
            <a:ext cx="43783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ians, managers, 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ssion threshold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561960" y="1166760"/>
            <a:ext cx="85503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Factors affecting hospital performance</a:t>
            </a: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587520" y="2730600"/>
            <a:ext cx="982008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mix’ (clinical severity) of patient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admission and discharge threshold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– admission rate per hospital catchment population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beds per hospital catchment population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per available bed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per available bed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theatres per available bed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2"/>
          <p:cNvSpPr/>
          <p:nvPr/>
        </p:nvSpPr>
        <p:spPr>
          <a:xfrm>
            <a:off x="542880" y="1166760"/>
            <a:ext cx="85503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Measures of hospital performance</a:t>
            </a: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609480" y="2523960"/>
            <a:ext cx="1015848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per available bed - throughput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ength of stay per patient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 days delayed discharge per patient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 ratio – Length of stay of patients age 65 and over / LOS &lt;65 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ccupancy rate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operations as day case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atients waiting per operation done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clinical severity of patients-severity thresholds</a:t>
            </a:r>
            <a:endParaRPr b="0" lang="en-US" sz="24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2:11:04Z</dcterms:created>
  <dc:creator>Elliott Golsing</dc:creator>
  <dc:description/>
  <dc:language>en-US</dc:language>
  <cp:lastModifiedBy>mdeacon</cp:lastModifiedBy>
  <dcterms:modified xsi:type="dcterms:W3CDTF">2010-03-19T14:17:21Z</dcterms:modified>
  <cp:revision>27</cp:revision>
  <dc:subject/>
  <dc:title>Slide 1</dc:title>
</cp:coreProperties>
</file>