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10158413" cy="76215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-360" y="75528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9257-074B-4C84-AABA-28AFF0515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8ECC-BFAA-4DD6-B373-38F411B112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2637-2568-46A5-8226-7CA26AC788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now want to make a small digression but a very important one for understanding how this works. For want of any better jargon I am going to call this the ‘hospital escalator’ befor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E3F1-F27F-4EB9-B1E2-4FD26B8CD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Prevention is a difficult concept and hard to prove conclusively. Quantifying how much is prevented is also challenging. Our approach extrapolated the trends seen using different assumptions – conservative and optimistic. Careful not to go over 12 months since no data points so cant extrapolate furth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Asked monthly each care co-ordinator if their actions had prevented an admission or an Attend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Finally checked for reasonableness against prior analysis based on proximity to death which showed 30 bed-days in last year of lif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Some caveat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People may stabilise or die at which point all health and social care stops so full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    preventive savings may not be reali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his is an average and is valid for only 12 months (what happens or might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    happen after 12 months is not define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 some cases prevented savings may be simply a postponement of end of life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    costs (i.e. beyond 12 month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Evaluation not long enough in duration to calculate such life cycle effects. Hence the lower bound as well as upper bound approac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All cases are different  But what is evidentially true is that the projected increase reflects the end of life hospital escalat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2F43-3FB2-48E5-96C8-32835FA5B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UK wide net savings would be worth about 1.5% to 3% on health care costs (about £1.5bn to £3bn) but there would be offsets of about £450m to fund the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DFFC-E4DE-4FEA-821B-23055752E9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The ICCS also had co-funding from Brent PCT. Intervention costs work out at around £1500 per client – that includes an initial assessment undertaken as soon as possible after referral, visits to persons home, 3-4 month follow up to check services are in place and working and that no significant changes in needs.  The services are co-ordinated around the individual and can include everything from referrals to health care providers, social services or to the pension service, gardeners, handymen, housing trusts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B1B-9F20-49CE-A907-2D26CB8871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et us look at why this has come about and is usefu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n older person whose life has reached a critical stage will find the system daunting and complex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his diagram is an attempt to describe how it work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ifferent services are provided by different bodies that do not necessarily communicate smoothly or share inform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lder people may receive care within the community through their GP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mmunity health services or social services – run by the council, PCT, GPs or voluntary provid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 hospital they are in the care of the acute trust – as inpatient, rehabilitation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&amp;E visi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f transferred temporarily or permanently to residential or nursing care they are under the umbrella of the private sector provid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here are many gaps that can slip through the net and also delays that can lead to faster deteriorations or inappropriate solu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6289-AF11-4BD8-8526-9778E9A45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t us look at this in the context of how care is currently deliv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ses are referred by a range of people and organizations – about 50% of whom are GPs. But could be other statutory services or even friends or relatives (although this is very sma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time built up a community of GPs that regularly refer. Some were fans from the outset, others gradually persuaded. A so called ‘EARLI’ tool was provided later on into the evaluation to help GPs identify people suitable for c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Emergency Admission Risk Likelihood Index (EARLI) Too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FA21-3F48-4A6F-94CC-A04AE401E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3452-8FE1-4686-BA90-F81778DC0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17B1-9178-40E6-A9B4-47BA499DE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nual case activity corresponds to about 3% of all people aged 65+ in B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0EC-D86F-4145-A474-BB0C748D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A53-5E17-4278-B28C-E277F83E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0478D-AF1F-4676-9C02-C42D9BDD79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4690A-A8DE-42E7-9423-5DA5415533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403DA-0996-4D24-98F7-3A2C40E4C6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5819C-8D8E-4E88-A92F-BD977E1382C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617C9-A9FA-4DC1-B5DB-60DF503DC4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BBD29-6B7A-4B66-836A-3CFECEA9C1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582AB-5ED6-4083-821F-7DBF7D927B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9D57D-F19A-4F64-832F-D7FBB5C884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3063B-5DFE-41B1-924D-613F06075F1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D1C5D-910B-4844-A8F1-FFB8B0B76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B42-D346-496D-B236-7EB3EC35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0E687-F940-40AC-A9B5-11EAA4D250D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B9DAE-9794-4852-ACE6-BCFA3711622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522B2-6FC3-4D19-A7B2-6467249B3F4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0783B-647E-4C12-B908-FCCECD405A3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3DF7F-BC10-4AC4-A03A-66A1DBC34AD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695AE-0A04-4113-9C47-2DF5AFE676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189CB-3F46-4496-A512-01514B5B42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2CB0A-0DB8-4E4E-8C34-70B837ADE23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5720A-29F1-405C-B1FC-67E1A178DC2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C1ABF-1B48-4F26-9984-2C8BE621C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1F9-F9B4-4E0B-9C8C-40C404D8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B63A7-3620-4890-B0AC-9B2D3315EFD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8620-AA57-45F7-AB29-EEDF68CD858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7FEF-A99C-4BFF-93E3-EBF8FC59A79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2E20-6CD9-4950-971C-D6653BB8FE2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A704-87F6-432D-948C-4670313786C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5EC9A-6C9E-4062-8AEC-7D470F1B017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59E0-4BB6-4A35-ACD1-C6E0723AE27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36EF6-6513-4F32-82BB-2B2D9D4850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E331-10B4-4C73-874E-E20D71084BC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8F80-D60E-43EA-B46B-D6AE1C3AF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AC80-0A70-466D-B82B-DF7BC59E7A6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DF921-DB85-4424-8155-B4C6AB72B0D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1634-AADC-4367-B3EB-DD9F4812A74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F65A2F-F0BD-4E30-8CBA-C6218C4DD85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D6E029-C37C-4A48-AF60-7F874364197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64A3B-D1D0-4809-BDDC-B504B6B5135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0EF589-B8A9-46F0-8D07-B6B04EC1D68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02759E-28A6-4CC4-86B0-E82797C8F0D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BCEC3B-0C37-40D4-AA0C-BA02D2B1F59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EA1185-A1E6-4030-94F2-4347F01762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0F6B7-5283-425E-80D0-B26552B441F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A7F811-2C13-471A-B1EC-85ED674271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1B716-FCA0-4900-BBA9-1B7FF7FD247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472A7-2532-4D3B-87BB-4FFD1944E8B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089BCB-80BC-416B-97F2-8CC4A5689F8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70D71-BF66-4C7C-95BB-D51BA3720C3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D7C1D-0D7D-4C85-AD39-5D71C6EF5E6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38B57-4FD9-4C4F-A402-88B18C1C3C5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5C215-A666-4F13-9BBF-4D91668B605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65162-2970-477F-A824-B0A3CC408B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EA104-826F-40C8-8146-7DA52A16CD8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3E16E-1D7B-4830-A471-FCBDCE7B55A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CE4F2-CF5E-4A46-A359-C2D9BEA6807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C9217-376D-43E8-A2E7-3F21426FC1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874E8-141C-4201-A732-8D4DB044BC3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04D40-017D-4071-B74E-DCBF1EF285C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9F7C9-CAC3-4944-AF75-386EC42E791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DB8D2-6994-4975-817B-C61E49869DE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0C7A-2715-42B7-A823-6C258B1B570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FDED-EEC2-4382-9290-4D794EBAAB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AD837-70C9-438F-BD91-36AD50EDA95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008A0-A90A-4DA6-84C9-25847E364F7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AAEC8-3F00-4DE0-9FF5-BEE21C7BD44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D525-B8D9-48CE-BC36-64E9C73EE68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F7D7-88F9-4746-9015-89B9106FA45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92A7-BD6B-4C86-B85E-219EE28AAF8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73AF-2E6E-4FAB-B606-1B5BD66578D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FD075-94E2-4D96-85CF-BEE118D8161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26B4B-13A1-4CBB-93B2-175604BC51F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B0469-926F-4C28-9D4A-8158BA49CF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90C1F-0275-4AF1-8ABA-06EA9F386E5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0D0EA-967D-46AA-9632-086A368E69E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DD2AC8-6B70-4A27-B848-4F21353FAD1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60BB36-89EF-497F-8A16-009B7E0F9F7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80053-D9F8-4489-9485-9965B0C1D27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EB7B1-568A-4ED5-B865-72C8C81AD1B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1DA929-D7A7-42AE-A905-C632334F8CF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7D906B-F9B2-48A5-8CF8-B965E3E1F7C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A2B0F-CA67-4AA5-A078-D22D00D6346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BDA026-FDA1-4D6D-8203-E0DD6A1697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6C6F1-9594-4F46-BD04-9FF86BBE915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96908-19B0-4D40-822C-C126070C5FE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84E79-596D-4AAE-9EE5-F79C2586164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AAF73-0B50-4F06-9A2F-6B9854A9A02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43522-2F2B-4849-9E91-F8EBF25E6B7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10CF9-F4E6-421D-AB2B-9FFC5826467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6D752-860D-4142-82FF-971E79A183C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8B635-7363-4B1B-9D83-7A0DFC1CC4B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E511F-D6DE-40D6-895B-3B1C8B1CDF6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0C9F4-21B4-42ED-B856-FF23499159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8AEB1-38FA-49E2-90A1-6DA5BAF0403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D94ED-FA0F-4B3E-9344-8CEE6136D90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89B76-11D9-4ED6-BD15-200F98402C8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4D619-835D-41C9-8A0C-E5EF9AA1448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5BAEE-2D80-4F0D-A36C-71F5DCA33BB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709E-C39A-4016-A82C-87DEF35A656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3D14-AF30-4962-B83F-C74820BCA8A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1F90-67C0-402E-93B7-E980A0DA84A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6D8C-125E-4838-BAAC-2AD93108423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81267-3346-4590-BE9A-8FB087FB09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B03-8157-4ECD-AF29-70B1EFE4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6E0DF-D6BA-4F21-A5DD-6C43D0BC41F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8BAA-1A7C-4971-91CF-8698BBB94F2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F4EB6-4A4B-474B-99C8-02E4BAB5A1E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EA7C5-E238-4D7D-9279-1401890DD28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3B2E4-0284-48F9-BC5F-3C474AA434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D1ED8-4658-4CE3-8BDC-B89AB0C2F6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04A15-D97A-421F-82FA-52A5F0A654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CCC45-D75B-44C1-9D4B-8D8FD80C44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1B570-E932-49E7-BD50-8599451FF6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5D22B-92AE-43B9-94E5-2DFE9A63D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F4B-648C-49EC-B40D-0DE2F183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6D778-4538-4C7E-8868-2A1E56F892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CF2E0-9C45-471B-A675-5C6CF9A584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94E99-2857-4E28-874D-E7E15D600D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5B65C-5D26-4F41-8357-65C902B23B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4F7C3-A9D3-4915-9BC0-4E274E1A65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86516-B3C7-466C-8D41-3972730003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F6A41-49EC-4E11-ADFC-AE5BDBF005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060C0-51C4-4278-9708-41903BC4DD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62710-D4DB-42EB-9373-8D02B9083C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95303-C31E-4ABC-9389-C703EF042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081-5245-46F2-A535-B9E952CB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4E4FC-3B70-42FA-B159-5AB9A22873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51280-DC2F-426A-BFE8-DE08BCD613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09871-40C0-4929-BF15-4C62E5949C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001C0-C4F7-4EDC-8E19-7C890C4677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3F1E1-8751-4C44-8EDD-6B91B5FBC9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13E3A-0C5D-4A4F-8939-873076430B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67A4C-FC2E-48EC-ABD6-F1DE454EC1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9D383-3348-442C-9908-1E4F18C616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B2B37-6A29-4786-9D76-C360FF5B4F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3CB7-332E-4533-BD1F-E9B9F25D8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BAF-C41F-45C0-9759-CC96B3C5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56D1-A468-4FB2-BB93-2C2C36F6E9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88E-E27D-4344-8873-C0E013C72E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36C7-D3B3-423B-8EE7-7BB1D69B2D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59EF-14CC-48B1-BAB7-D42F10D94B8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AF40-C3C4-4460-A4E0-32FD34E3DD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BBAD-9290-4CA7-939D-8BA604F9BF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C898-8A67-47EB-8B55-8449D97FEE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6908-3C13-4E17-8547-EBD9A66047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0D6B-A9A7-4911-A03F-C8A37026E9E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2F1F-B5A0-4FEB-97C5-7AB79CDE8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580-51C0-4184-9A65-CA84C48A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FDCE-A140-4F10-90BF-8817FED472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A62D5-F5DA-46B8-8E04-2868E927BC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5510B-30A7-4D96-ADC7-8E41091F73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14BD3-2954-4230-B3BD-7AB4A22CEAD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80542-3296-4589-B3CA-B55B1053D4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14C05-8569-4C23-86F1-4F23F3252B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B7764-C36B-4DFF-B4EF-BFE374F679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745B95-217D-4E37-AE68-23D56660A6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01549-173D-42AE-A1BC-27A7B19BFA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A3F18-9953-4FFB-89F1-DCBE9D179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780-E311-492C-984B-7989CC29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2ECEC-0597-4A74-A1F0-77200BC418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36CD1-6FD5-4784-A739-30E9B4B80D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C9D68-0E6A-4C24-BEDB-B6878CA476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123E9-34C5-4F66-9460-E589446864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5C7E6-9188-453B-8CF6-EBEC10F56F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A129B-5826-46AF-B6C6-6D513884B36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AB021-8813-413B-92CD-E9332D29065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59018-9435-4B4B-BF4B-813728D62C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B8839-AEE1-4EA1-BA4C-5A0C087849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CD1F1-E706-414B-9935-836818BDB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5D1-B371-48A1-8335-3AD76A34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8B4DA-40F4-4872-9955-51A6335675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EEE84-9E92-48CC-868C-501F78C970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E4CE0-F35B-4A7C-8CAC-CB90B5C4D8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1CE87-F172-4AEA-B2E7-7437D29F59F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65A68-154C-457A-994D-AB71BEF8E9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9D1A-7E22-45CE-8C0D-5B073BAFDD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9A87-56B4-4159-B451-983FF8871EE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B4A7-AD3E-4D1B-82CB-5945138AA9B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E02D-392B-403D-9EC5-F7F6E754264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2686-3570-4027-ADF0-347364A2F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C42-61F1-4850-A9AD-2DAB4F3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43DC-8517-4AA2-9D26-7243E8B20A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2B62-3333-402C-89EC-D6833EC227C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5842-8630-4BFC-8C68-F234DEDCCD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C00B-86B9-4133-A087-158E2799A8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59E9-5BF9-49CD-BFF2-8086F237CA5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A7D8-66C4-49A3-8553-3270E3017E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6678-09BB-432D-8817-CB47AD8E5E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13B36-1249-4A38-A89C-05DF8F4C58D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D03B7-0BE1-4957-A346-143FC74C59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CE9C6-26B2-4D3D-982F-C47DA58EC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796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80F5-BC43-4628-99DD-3ADF30299DCF}" type="datetime">
              <a:rPr b="0" lang="en-US" sz="1300" spc="-1" strike="noStrike">
                <a:solidFill>
                  <a:srgbClr val="898c9d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70400" y="7063920"/>
            <a:ext cx="321768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8028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13CF-D555-41D0-B87E-7EE107FB02AD}" type="slidenum">
              <a:rPr b="0" lang="en-GB" sz="13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373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1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DFE8-B56D-47CB-A956-D734ACFE18CC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12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70AA-70AE-4B20-B3A5-688B94E0A438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13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064B-B421-41C7-B87B-F890FD84C36B}" type="slidenum">
              <a:rPr b="0" lang="en-GB" sz="1200" spc="-1" strike="noStrike">
                <a:solidFill>
                  <a:srgbClr val="000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96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4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A471-D360-4310-B8BC-F3B17268B1CD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537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15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98A9-906E-4274-9F10-FCD473AB3C41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16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317-E15F-4325-AB1B-CAB54DB3AE8E}" type="slidenum">
              <a:rPr b="0" lang="en-GB" sz="1200" spc="-1" strike="noStrike">
                <a:solidFill>
                  <a:srgbClr val="000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620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7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EF7B-C253-4D9F-A5A9-70845966FDD2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661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sldNum" idx="18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4C7-61BE-46C1-85BF-8A2C6D39663A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HK PPT template2.jpg"/>
          <p:cNvPicPr/>
          <p:nvPr/>
        </p:nvPicPr>
        <p:blipFill>
          <a:blip r:embed="rId2"/>
          <a:stretch/>
        </p:blipFill>
        <p:spPr>
          <a:xfrm>
            <a:off x="6480" y="0"/>
            <a:ext cx="10145520" cy="76215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8600" y="716904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LM//DL/HK © 2010</a:t>
            </a:r>
            <a:endParaRPr b="0" lang="en-US" sz="1000" spc="-1" strike="noStrike">
              <a:solidFill>
                <a:srgbClr val="f79646"/>
              </a:solidFill>
              <a:latin typeface="Times New Roman"/>
            </a:endParaRPr>
          </a:p>
        </p:txBody>
      </p:sp>
      <p:pic>
        <p:nvPicPr>
          <p:cNvPr id="44" name="Picture 42" descr="JagzNkm Logo BLUE 300"/>
          <p:cNvPicPr/>
          <p:nvPr/>
        </p:nvPicPr>
        <p:blipFill>
          <a:blip r:embed="rId3"/>
          <a:stretch/>
        </p:blipFill>
        <p:spPr>
          <a:xfrm>
            <a:off x="2558880" y="6959520"/>
            <a:ext cx="852480" cy="595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84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D99A-64FE-4C6B-810E-616812A45444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27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5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3104-2DE7-4069-87A9-F90930C5967D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6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393-65B3-4E53-AD97-6D459926464C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7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BF34-12B5-4971-8DC2-256D21A2D6AB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8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590A-A0FE-4097-8A3B-1D438A147AB7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9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7DC7-AF3C-4F46-AD32-ECA18D4C93A2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332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0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3001-49EF-4F57-8927-5165C3524408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31640" y="431280"/>
            <a:ext cx="9360000" cy="107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Public Health Modul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98520" y="1722240"/>
            <a:ext cx="9360000" cy="966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nu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8" name="Line 10"/>
          <p:cNvSpPr/>
          <p:nvPr/>
        </p:nvSpPr>
        <p:spPr>
          <a:xfrm>
            <a:off x="0" y="2809800"/>
            <a:ext cx="101584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471600" y="3033720"/>
            <a:ext cx="871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Health Services Planning in a 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World Class Commissioning Environment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Exercise 3 </a:t>
            </a:r>
            <a:r>
              <a:rPr b="1" lang="en-GB" sz="2800" spc="-1" strike="noStrike">
                <a:solidFill>
                  <a:srgbClr val="ff8000"/>
                </a:solidFill>
                <a:latin typeface="Arial"/>
              </a:rPr>
              <a:t>Planning service redesign in a local area:  </a:t>
            </a:r>
            <a:r>
              <a:rPr b="1" lang="en-GB" sz="2800" spc="-1" strike="noStrike">
                <a:solidFill>
                  <a:srgbClr val="ff8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Les Mayhew and David Lawrence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pic>
        <p:nvPicPr>
          <p:cNvPr id="710" name="Picture 42" descr="JagzNkm Logo BLUE 300"/>
          <p:cNvPicPr/>
          <p:nvPr/>
        </p:nvPicPr>
        <p:blipFill>
          <a:blip r:embed="rId1"/>
          <a:stretch/>
        </p:blipFill>
        <p:spPr>
          <a:xfrm>
            <a:off x="2558880" y="6959520"/>
            <a:ext cx="852480" cy="5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7960" y="13788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ho is the target group?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6599160" y="4459320"/>
            <a:ext cx="41990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needs/high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ediate needs/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needs/low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6087960" y="4530600"/>
            <a:ext cx="400320" cy="319320"/>
          </a:xfrm>
          <a:prstGeom prst="rect">
            <a:avLst/>
          </a:prstGeom>
          <a:solidFill>
            <a:srgbClr val="f9300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087960" y="5754600"/>
            <a:ext cx="400320" cy="319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6087960" y="5148360"/>
            <a:ext cx="400320" cy="31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6039000" y="1290600"/>
            <a:ext cx="3919320" cy="2846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dds of being a client increas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 times if aged 75+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7 times if living alon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7 times if living on benefits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3 times if living i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social housing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.2 times if all 4 risk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factors appl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grpSp>
        <p:nvGrpSpPr>
          <p:cNvPr id="767" name="Group 11"/>
          <p:cNvGrpSpPr/>
          <p:nvPr/>
        </p:nvGrpSpPr>
        <p:grpSpPr>
          <a:xfrm>
            <a:off x="0" y="1146240"/>
            <a:ext cx="6038640" cy="5086080"/>
            <a:chOff x="0" y="1146240"/>
            <a:chExt cx="6038640" cy="5086080"/>
          </a:xfrm>
        </p:grpSpPr>
        <p:graphicFrame>
          <p:nvGraphicFramePr>
            <p:cNvPr id="768" name="Object 2"/>
            <p:cNvGraphicFramePr/>
            <p:nvPr/>
          </p:nvGraphicFramePr>
          <p:xfrm>
            <a:off x="0" y="1146240"/>
            <a:ext cx="6038640" cy="5086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6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6240"/>
                      <a:ext cx="6038640" cy="50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0" name="Text Box 13"/>
            <p:cNvSpPr/>
            <p:nvPr/>
          </p:nvSpPr>
          <p:spPr>
            <a:xfrm>
              <a:off x="623880" y="5597280"/>
              <a:ext cx="2070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71" name="Text Box 14"/>
            <p:cNvSpPr/>
            <p:nvPr/>
          </p:nvSpPr>
          <p:spPr>
            <a:xfrm>
              <a:off x="1374840" y="5597280"/>
              <a:ext cx="20664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72" name="Rectangle 15"/>
            <p:cNvSpPr/>
            <p:nvPr/>
          </p:nvSpPr>
          <p:spPr>
            <a:xfrm>
              <a:off x="2184840" y="5597280"/>
              <a:ext cx="162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</p:grpSp>
      <p:sp>
        <p:nvSpPr>
          <p:cNvPr id="773" name="Oval 9"/>
          <p:cNvSpPr/>
          <p:nvPr/>
        </p:nvSpPr>
        <p:spPr>
          <a:xfrm>
            <a:off x="2990880" y="1793880"/>
            <a:ext cx="558720" cy="2881440"/>
          </a:xfrm>
          <a:prstGeom prst="ellips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42880" y="16488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ho is the target group?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6599160" y="4819680"/>
            <a:ext cx="41990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needs/high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ediate needs/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needs/low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6087960" y="4890960"/>
            <a:ext cx="400320" cy="319320"/>
          </a:xfrm>
          <a:prstGeom prst="rect">
            <a:avLst/>
          </a:prstGeom>
          <a:solidFill>
            <a:srgbClr val="f9300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087960" y="6043680"/>
            <a:ext cx="400320" cy="318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6087960" y="5467320"/>
            <a:ext cx="400320" cy="31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6039000" y="1001880"/>
            <a:ext cx="3919320" cy="3760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fficulties with daily living: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6% can’t climb the stairs 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3% can’t wash alon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% can’t dress alon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2% can’t use the toilet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% can’t transfer from be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to chair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% can’t feed alon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failure rate of 1.75 ADLs per client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grpSp>
        <p:nvGrpSpPr>
          <p:cNvPr id="780" name="Group 11"/>
          <p:cNvGrpSpPr/>
          <p:nvPr/>
        </p:nvGrpSpPr>
        <p:grpSpPr>
          <a:xfrm>
            <a:off x="0" y="1146240"/>
            <a:ext cx="6119280" cy="5155920"/>
            <a:chOff x="0" y="1146240"/>
            <a:chExt cx="6119280" cy="5155920"/>
          </a:xfrm>
        </p:grpSpPr>
        <p:graphicFrame>
          <p:nvGraphicFramePr>
            <p:cNvPr id="781" name="Object 2"/>
            <p:cNvGraphicFramePr/>
            <p:nvPr/>
          </p:nvGraphicFramePr>
          <p:xfrm>
            <a:off x="0" y="1146240"/>
            <a:ext cx="6119280" cy="5155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8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6240"/>
                      <a:ext cx="61192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3" name="Text Box 13"/>
            <p:cNvSpPr/>
            <p:nvPr/>
          </p:nvSpPr>
          <p:spPr>
            <a:xfrm>
              <a:off x="632160" y="5658480"/>
              <a:ext cx="20952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84" name="Text Box 14"/>
            <p:cNvSpPr/>
            <p:nvPr/>
          </p:nvSpPr>
          <p:spPr>
            <a:xfrm>
              <a:off x="1393200" y="5658480"/>
              <a:ext cx="20916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2214000" y="5658480"/>
              <a:ext cx="164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</p:grpSp>
      <p:sp>
        <p:nvSpPr>
          <p:cNvPr id="786" name="Oval 9"/>
          <p:cNvSpPr/>
          <p:nvPr/>
        </p:nvSpPr>
        <p:spPr>
          <a:xfrm>
            <a:off x="3016080" y="1905120"/>
            <a:ext cx="559080" cy="2881080"/>
          </a:xfrm>
          <a:prstGeom prst="ellips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7960" y="21096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ho is the target group?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788" name="Object 2"/>
          <p:cNvGraphicFramePr/>
          <p:nvPr/>
        </p:nvGraphicFramePr>
        <p:xfrm>
          <a:off x="79200" y="1362240"/>
          <a:ext cx="608040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362240"/>
                    <a:ext cx="608040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Text Box 4"/>
          <p:cNvSpPr/>
          <p:nvPr/>
        </p:nvSpPr>
        <p:spPr>
          <a:xfrm>
            <a:off x="6599160" y="4170240"/>
            <a:ext cx="41990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needs/high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ediate needs/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needs/low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6087960" y="4243320"/>
            <a:ext cx="400320" cy="319320"/>
          </a:xfrm>
          <a:prstGeom prst="rect">
            <a:avLst/>
          </a:prstGeom>
          <a:solidFill>
            <a:srgbClr val="f9300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6087960" y="5467320"/>
            <a:ext cx="400320" cy="318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6087960" y="4819680"/>
            <a:ext cx="400320" cy="31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4" name="Text Box 8"/>
          <p:cNvSpPr/>
          <p:nvPr/>
        </p:nvSpPr>
        <p:spPr>
          <a:xfrm>
            <a:off x="6087960" y="1793880"/>
            <a:ext cx="3888000" cy="193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 average in previous 12mths: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3   A&amp;E attendances 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Admissions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   Bed-days in hospital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5" name="Oval 9"/>
          <p:cNvSpPr/>
          <p:nvPr/>
        </p:nvSpPr>
        <p:spPr>
          <a:xfrm>
            <a:off x="3062160" y="1938240"/>
            <a:ext cx="559080" cy="2881440"/>
          </a:xfrm>
          <a:prstGeom prst="ellips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91600" y="353880"/>
            <a:ext cx="9650520" cy="16970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000" spc="-1" strike="noStrike">
                <a:solidFill>
                  <a:srgbClr val="ff8000"/>
                </a:solidFill>
                <a:latin typeface="Arial"/>
              </a:rPr>
              <a:t>Measuring the preventive effect of Brent Integrated Care Co-ordination Service on hospital activity</a:t>
            </a:r>
            <a:endParaRPr b="0" lang="en-US" sz="3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97" name="Picture 6" descr=""/>
          <p:cNvPicPr/>
          <p:nvPr/>
        </p:nvPicPr>
        <p:blipFill>
          <a:blip r:embed="rId1"/>
          <a:stretch/>
        </p:blipFill>
        <p:spPr>
          <a:xfrm>
            <a:off x="1766880" y="1611360"/>
            <a:ext cx="6729480" cy="40719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7"/>
          <p:cNvSpPr/>
          <p:nvPr/>
        </p:nvSpPr>
        <p:spPr>
          <a:xfrm>
            <a:off x="4862520" y="4386240"/>
            <a:ext cx="4827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9" name="Text Box 8"/>
          <p:cNvSpPr/>
          <p:nvPr/>
        </p:nvSpPr>
        <p:spPr>
          <a:xfrm>
            <a:off x="5872320" y="4367160"/>
            <a:ext cx="40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0" name="Text Box 9"/>
          <p:cNvSpPr/>
          <p:nvPr/>
        </p:nvSpPr>
        <p:spPr>
          <a:xfrm>
            <a:off x="7318440" y="3971880"/>
            <a:ext cx="5619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1" name="Text Box 10"/>
          <p:cNvSpPr/>
          <p:nvPr/>
        </p:nvSpPr>
        <p:spPr>
          <a:xfrm>
            <a:off x="7318440" y="3330720"/>
            <a:ext cx="3985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614520" y="5245200"/>
            <a:ext cx="9278640" cy="12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- actual admissions before referral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- actual admission post referral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- lower bound prevented admissions (based on linear trend extrapolation)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+D – upper bound prevented admissions (based on accelerating trend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6119640" y="1649520"/>
            <a:ext cx="1600200" cy="960480"/>
          </a:xfrm>
          <a:prstGeom prst="wedgeRectCallout">
            <a:avLst>
              <a:gd name="adj1" fmla="val 62569"/>
              <a:gd name="adj2" fmla="val 128675"/>
            </a:avLst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Arial"/>
              </a:rPr>
              <a:t>Care-coordinators own judgement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49080" y="809640"/>
            <a:ext cx="91422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Summary of costs/saving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61760" y="2523600"/>
            <a:ext cx="9142200" cy="3605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intervention saves in the next 12 months between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9 (lower) to 5.9 (upper) admission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.2 (lower) to 28.7 (upper) bed-day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8 (lower) to 7.8 (upper) A&amp;E attenda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ings work out at between £4,800 to £10,200 for an average outlay of £1500 per case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icated nationally ~1.5%-3%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ing on health care although public expenditure offsets elsewher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42880" y="28260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Exercise 3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46120" y="13622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lanning service redesign in your local area using information and learning from a service innovation from Brent NW London to reduce hospital admissions of people with chronic illnes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 Learn about redesigning services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ng and conceptualisation of ‘redesign’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ing evaluations of service redesign project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 Produce an outline draft service  redesign project for services in your are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line action plan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42880" y="28260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Media coverag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14" name="Picture 17" descr=""/>
          <p:cNvPicPr/>
          <p:nvPr/>
        </p:nvPicPr>
        <p:blipFill>
          <a:blip r:embed="rId1"/>
          <a:srcRect l="20025" t="22149" r="49613" b="33556"/>
          <a:stretch/>
        </p:blipFill>
        <p:spPr>
          <a:xfrm>
            <a:off x="2268360" y="1650960"/>
            <a:ext cx="51073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42520" y="1095120"/>
            <a:ext cx="99378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The Brent POPP Pilot</a:t>
            </a:r>
            <a:br>
              <a:rPr sz="3200"/>
            </a:b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(POPP – Partnerships for Older People Projects)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7400" y="3095640"/>
            <a:ext cx="9142560" cy="29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ed by a £1.65m grant from DH over two years from April 2006 based on award winning pre-cursor service from 2004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co-funding from Brent PCT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approximately £1500 per interventio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s holistic assessment and problem solvi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rdinates care around the individual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5" descr=""/>
          <p:cNvPicPr/>
          <p:nvPr/>
        </p:nvPicPr>
        <p:blipFill>
          <a:blip r:embed="rId1"/>
          <a:srcRect l="0" t="6311" r="0" b="10519"/>
          <a:stretch/>
        </p:blipFill>
        <p:spPr>
          <a:xfrm>
            <a:off x="1406520" y="1290600"/>
            <a:ext cx="8209080" cy="511020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Organisation of health and social care at </a:t>
            </a:r>
            <a:br>
              <a:rPr sz="3200"/>
            </a:b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local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42880" y="28260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About the servic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614520" y="1906560"/>
            <a:ext cx="9001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team of experienced Care Coordinators working with people for average of 3-4 months </a:t>
            </a:r>
            <a:r>
              <a:rPr b="0" lang="en-GB" sz="2400" spc="-1" strike="noStrike">
                <a:solidFill>
                  <a:srgbClr val="f79646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f79646"/>
                </a:solidFill>
                <a:latin typeface="Arial"/>
              </a:rPr>
              <a:t>called Integrated Care Co-ordination Service (ICCS))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s Voluntary and Statutory Sector Partnership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jointly managed, including sharing of IT across LA and PCT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rvice identifies older people by: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GPs – Case finding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s with A&amp;E at local hospitals, social care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7960" y="13788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ho is the target group?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2" name="Text Box 17"/>
          <p:cNvSpPr/>
          <p:nvPr/>
        </p:nvSpPr>
        <p:spPr>
          <a:xfrm>
            <a:off x="471600" y="5970600"/>
            <a:ext cx="90723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 pyramid showing number of males and females aged 65+ and their degree of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23" name="Text Box 22"/>
          <p:cNvSpPr/>
          <p:nvPr/>
        </p:nvSpPr>
        <p:spPr>
          <a:xfrm>
            <a:off x="6519960" y="3235320"/>
            <a:ext cx="419868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needs/high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ediate needs/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needs/low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24" name="Rectangle 23"/>
          <p:cNvSpPr/>
          <p:nvPr/>
        </p:nvSpPr>
        <p:spPr>
          <a:xfrm>
            <a:off x="5943600" y="3235320"/>
            <a:ext cx="399960" cy="318960"/>
          </a:xfrm>
          <a:prstGeom prst="rect">
            <a:avLst/>
          </a:prstGeom>
          <a:solidFill>
            <a:srgbClr val="f9300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25" name="Rectangle 24"/>
          <p:cNvSpPr/>
          <p:nvPr/>
        </p:nvSpPr>
        <p:spPr>
          <a:xfrm>
            <a:off x="5943600" y="4530600"/>
            <a:ext cx="399960" cy="319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26" name="Rectangle 25"/>
          <p:cNvSpPr/>
          <p:nvPr/>
        </p:nvSpPr>
        <p:spPr>
          <a:xfrm>
            <a:off x="5943600" y="3882960"/>
            <a:ext cx="399960" cy="31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5959440" y="1889280"/>
            <a:ext cx="3678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28" name="Text Box 27"/>
          <p:cNvSpPr/>
          <p:nvPr/>
        </p:nvSpPr>
        <p:spPr>
          <a:xfrm>
            <a:off x="6119640" y="1969920"/>
            <a:ext cx="2719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grpSp>
        <p:nvGrpSpPr>
          <p:cNvPr id="729" name="Group 35"/>
          <p:cNvGrpSpPr/>
          <p:nvPr/>
        </p:nvGrpSpPr>
        <p:grpSpPr>
          <a:xfrm>
            <a:off x="0" y="1001880"/>
            <a:ext cx="5971680" cy="5030280"/>
            <a:chOff x="0" y="1001880"/>
            <a:chExt cx="5971680" cy="5030280"/>
          </a:xfrm>
        </p:grpSpPr>
        <p:graphicFrame>
          <p:nvGraphicFramePr>
            <p:cNvPr id="730" name="Object 2"/>
            <p:cNvGraphicFramePr/>
            <p:nvPr/>
          </p:nvGraphicFramePr>
          <p:xfrm>
            <a:off x="0" y="1001880"/>
            <a:ext cx="5971680" cy="5030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3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001880"/>
                      <a:ext cx="5971680" cy="50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2" name="Text Box 29"/>
            <p:cNvSpPr/>
            <p:nvPr/>
          </p:nvSpPr>
          <p:spPr>
            <a:xfrm>
              <a:off x="617040" y="5403960"/>
              <a:ext cx="20448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33" name="Text Box 32"/>
            <p:cNvSpPr/>
            <p:nvPr/>
          </p:nvSpPr>
          <p:spPr>
            <a:xfrm>
              <a:off x="1359720" y="5403960"/>
              <a:ext cx="20412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34" name="Rectangle 34"/>
            <p:cNvSpPr/>
            <p:nvPr/>
          </p:nvSpPr>
          <p:spPr>
            <a:xfrm>
              <a:off x="2160360" y="5403960"/>
              <a:ext cx="1602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ho is the target group?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6599160" y="4746600"/>
            <a:ext cx="41990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needs/high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ediate needs/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needs/low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6199200" y="4819680"/>
            <a:ext cx="399960" cy="318960"/>
          </a:xfrm>
          <a:prstGeom prst="rect">
            <a:avLst/>
          </a:prstGeom>
          <a:solidFill>
            <a:srgbClr val="f9300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6199200" y="6043680"/>
            <a:ext cx="399960" cy="318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6199200" y="5435640"/>
            <a:ext cx="399960" cy="31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6237360" y="930240"/>
            <a:ext cx="3641760" cy="3760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ng term conditions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d co-morbidity: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common are heart disease, mental illness and arthritis (37% of clients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cer/strok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3% have 2+ condition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21%, 3+ conditions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1.75 conditions 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 client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grpSp>
        <p:nvGrpSpPr>
          <p:cNvPr id="741" name="Group 10"/>
          <p:cNvGrpSpPr/>
          <p:nvPr/>
        </p:nvGrpSpPr>
        <p:grpSpPr>
          <a:xfrm>
            <a:off x="0" y="1362240"/>
            <a:ext cx="6119280" cy="5155560"/>
            <a:chOff x="0" y="1362240"/>
            <a:chExt cx="6119280" cy="5155560"/>
          </a:xfrm>
        </p:grpSpPr>
        <p:graphicFrame>
          <p:nvGraphicFramePr>
            <p:cNvPr id="742" name="Object 2"/>
            <p:cNvGraphicFramePr/>
            <p:nvPr/>
          </p:nvGraphicFramePr>
          <p:xfrm>
            <a:off x="0" y="1362240"/>
            <a:ext cx="6119280" cy="5155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4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62240"/>
                      <a:ext cx="6119280" cy="51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4" name="Text Box 12"/>
            <p:cNvSpPr/>
            <p:nvPr/>
          </p:nvSpPr>
          <p:spPr>
            <a:xfrm>
              <a:off x="632160" y="5874120"/>
              <a:ext cx="20952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45" name="Text Box 13"/>
            <p:cNvSpPr/>
            <p:nvPr/>
          </p:nvSpPr>
          <p:spPr>
            <a:xfrm>
              <a:off x="1393200" y="5874120"/>
              <a:ext cx="20916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46" name="Rectangle 14"/>
            <p:cNvSpPr/>
            <p:nvPr/>
          </p:nvSpPr>
          <p:spPr>
            <a:xfrm>
              <a:off x="2214000" y="5874120"/>
              <a:ext cx="164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</p:grpSp>
      <p:sp>
        <p:nvSpPr>
          <p:cNvPr id="747" name="Oval 9"/>
          <p:cNvSpPr/>
          <p:nvPr/>
        </p:nvSpPr>
        <p:spPr>
          <a:xfrm>
            <a:off x="3062160" y="2011320"/>
            <a:ext cx="559080" cy="2881440"/>
          </a:xfrm>
          <a:prstGeom prst="ellips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15"/>
          <p:cNvGrpSpPr/>
          <p:nvPr/>
        </p:nvGrpSpPr>
        <p:grpSpPr>
          <a:xfrm>
            <a:off x="79200" y="1146240"/>
            <a:ext cx="6080040" cy="5122440"/>
            <a:chOff x="79200" y="1146240"/>
            <a:chExt cx="6080040" cy="5122440"/>
          </a:xfrm>
        </p:grpSpPr>
        <p:graphicFrame>
          <p:nvGraphicFramePr>
            <p:cNvPr id="749" name="Object 2"/>
            <p:cNvGraphicFramePr/>
            <p:nvPr/>
          </p:nvGraphicFramePr>
          <p:xfrm>
            <a:off x="79200" y="1146240"/>
            <a:ext cx="6080040" cy="5122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5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200" y="1146240"/>
                      <a:ext cx="6080040" cy="51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1" name="Text Box 17"/>
            <p:cNvSpPr/>
            <p:nvPr/>
          </p:nvSpPr>
          <p:spPr>
            <a:xfrm>
              <a:off x="707400" y="5628960"/>
              <a:ext cx="208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52" name="Text Box 18"/>
            <p:cNvSpPr/>
            <p:nvPr/>
          </p:nvSpPr>
          <p:spPr>
            <a:xfrm>
              <a:off x="1463760" y="5628960"/>
              <a:ext cx="2080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  <p:sp>
          <p:nvSpPr>
            <p:cNvPr id="753" name="Rectangle 19"/>
            <p:cNvSpPr/>
            <p:nvPr/>
          </p:nvSpPr>
          <p:spPr>
            <a:xfrm>
              <a:off x="2278800" y="5628960"/>
              <a:ext cx="163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3200" spc="-1" strike="noStrike">
                <a:solidFill>
                  <a:srgbClr val="f79646"/>
                </a:solidFill>
                <a:latin typeface="Times New Roman"/>
              </a:endParaRPr>
            </a:p>
          </p:txBody>
        </p: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42880" y="21096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Who is the target group?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6599160" y="4746600"/>
            <a:ext cx="41990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needs/high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ediate needs/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needs/low dependenc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6191280" y="4819680"/>
            <a:ext cx="399960" cy="318960"/>
          </a:xfrm>
          <a:prstGeom prst="rect">
            <a:avLst/>
          </a:prstGeom>
          <a:solidFill>
            <a:srgbClr val="f9300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6191280" y="5970600"/>
            <a:ext cx="399960" cy="318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6191280" y="5394240"/>
            <a:ext cx="399960" cy="31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9" name="Oval 9"/>
          <p:cNvSpPr/>
          <p:nvPr/>
        </p:nvSpPr>
        <p:spPr>
          <a:xfrm>
            <a:off x="3062160" y="1866960"/>
            <a:ext cx="559080" cy="2881080"/>
          </a:xfrm>
          <a:prstGeom prst="ellips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0" name="Text Box 10"/>
          <p:cNvSpPr/>
          <p:nvPr/>
        </p:nvSpPr>
        <p:spPr>
          <a:xfrm>
            <a:off x="6224760" y="1290600"/>
            <a:ext cx="3679560" cy="3176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0% of clients are aged 75+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are aged 80+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3% are aged 90+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8% are femal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stimated to be 0.3m UK-wide who would meet the criteria and might benefit, rising to 0.4m by 2025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2:11:04Z</dcterms:created>
  <dc:creator>Elliott Golsing</dc:creator>
  <dc:description/>
  <dc:language>en-US</dc:language>
  <cp:lastModifiedBy>mdeacon</cp:lastModifiedBy>
  <dcterms:modified xsi:type="dcterms:W3CDTF">2010-03-24T13:17:23Z</dcterms:modified>
  <cp:revision>30</cp:revision>
  <dc:subject/>
  <dc:title>Slide 1</dc:title>
</cp:coreProperties>
</file>